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9B8-F546-44BF-8EFC-5334617E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D82-A6EF-4512-82BD-4F196204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190-743D-49BF-9083-13B4D1A2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E68-A049-4562-B7A8-70EC5A29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09B-7B19-42E3-9E98-57283480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BF8-F18E-41DB-8F6A-B16235C3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AAB-FBA7-4561-A276-0CAA2A0D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B67-756E-40CF-BF21-ED749DB2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3D4-BB2D-4917-9384-5B52AD20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AE6-626B-4F13-9D86-8A463C54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0CA-F6FA-4F73-B9F6-73D92F96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0B3-F90A-49BF-8636-CBC22BD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2E80-11E1-40F9-B05C-33AD06DB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Opener:  Round to the underlined place val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4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0.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00120" y="2608200"/>
            <a:ext cx="482760" cy="320760"/>
          </a:xfrm>
          <a:custGeom>
            <a:avLst/>
            <a:gdLst/>
            <a:ahLst/>
            <a:rect l="l" t="t" r="r" b="b"/>
            <a:pathLst>
              <a:path w="1341" h="894">
                <a:moveTo>
                  <a:pt x="4291" y="7417"/>
                </a:moveTo>
                <a:cubicBezTo>
                  <a:pt x="4261" y="7507"/>
                  <a:pt x="4211" y="7601"/>
                  <a:pt x="4167" y="7689"/>
                </a:cubicBezTo>
                <a:cubicBezTo>
                  <a:pt x="4316" y="7758"/>
                  <a:pt x="4441" y="7727"/>
                  <a:pt x="4614" y="7714"/>
                </a:cubicBezTo>
              </a:path>
              <a:path w="1341" h="894">
                <a:moveTo>
                  <a:pt x="4614" y="7243"/>
                </a:moveTo>
                <a:cubicBezTo>
                  <a:pt x="4602" y="7507"/>
                  <a:pt x="4585" y="7776"/>
                  <a:pt x="4539" y="8037"/>
                </a:cubicBezTo>
                <a:cubicBezTo>
                  <a:pt x="4531" y="8070"/>
                  <a:pt x="4522" y="8103"/>
                  <a:pt x="4514" y="8136"/>
                </a:cubicBezTo>
              </a:path>
              <a:path w="1341" h="894">
                <a:moveTo>
                  <a:pt x="4837" y="7938"/>
                </a:moveTo>
                <a:cubicBezTo>
                  <a:pt x="4845" y="7954"/>
                  <a:pt x="4854" y="7971"/>
                  <a:pt x="4862" y="7987"/>
                </a:cubicBezTo>
              </a:path>
              <a:path w="1341" h="894">
                <a:moveTo>
                  <a:pt x="5457" y="7367"/>
                </a:moveTo>
                <a:cubicBezTo>
                  <a:pt x="5321" y="7378"/>
                  <a:pt x="5274" y="7403"/>
                  <a:pt x="5159" y="7466"/>
                </a:cubicBezTo>
                <a:cubicBezTo>
                  <a:pt x="5123" y="7689"/>
                  <a:pt x="5282" y="7638"/>
                  <a:pt x="5432" y="7764"/>
                </a:cubicBezTo>
                <a:cubicBezTo>
                  <a:pt x="5581" y="7889"/>
                  <a:pt x="5504" y="7932"/>
                  <a:pt x="5407" y="8012"/>
                </a:cubicBezTo>
                <a:cubicBezTo>
                  <a:pt x="5198" y="7866"/>
                  <a:pt x="5326" y="7743"/>
                  <a:pt x="5407" y="7516"/>
                </a:cubicBezTo>
                <a:cubicBezTo>
                  <a:pt x="5431" y="7421"/>
                  <a:pt x="5443" y="7391"/>
                  <a:pt x="5358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71920" y="2633760"/>
            <a:ext cx="588960" cy="322200"/>
          </a:xfrm>
          <a:custGeom>
            <a:avLst/>
            <a:gdLst/>
            <a:ahLst/>
            <a:rect l="l" t="t" r="r" b="b"/>
            <a:pathLst>
              <a:path w="1638" h="894">
                <a:moveTo>
                  <a:pt x="10492" y="7541"/>
                </a:moveTo>
                <a:cubicBezTo>
                  <a:pt x="10504" y="7469"/>
                  <a:pt x="10450" y="7338"/>
                  <a:pt x="10344" y="7317"/>
                </a:cubicBezTo>
                <a:cubicBezTo>
                  <a:pt x="10074" y="7264"/>
                  <a:pt x="9966" y="7547"/>
                  <a:pt x="9922" y="7739"/>
                </a:cubicBezTo>
                <a:cubicBezTo>
                  <a:pt x="10253" y="7792"/>
                  <a:pt x="10191" y="7694"/>
                  <a:pt x="10393" y="7516"/>
                </a:cubicBezTo>
                <a:cubicBezTo>
                  <a:pt x="10393" y="7532"/>
                  <a:pt x="10393" y="7549"/>
                  <a:pt x="10393" y="7565"/>
                </a:cubicBezTo>
                <a:cubicBezTo>
                  <a:pt x="10407" y="7757"/>
                  <a:pt x="10393" y="7941"/>
                  <a:pt x="10393" y="8136"/>
                </a:cubicBezTo>
              </a:path>
              <a:path w="1638" h="894">
                <a:moveTo>
                  <a:pt x="10765" y="7491"/>
                </a:moveTo>
                <a:cubicBezTo>
                  <a:pt x="10783" y="7728"/>
                  <a:pt x="10804" y="7957"/>
                  <a:pt x="10765" y="8186"/>
                </a:cubicBezTo>
                <a:cubicBezTo>
                  <a:pt x="10765" y="8194"/>
                  <a:pt x="10765" y="8202"/>
                  <a:pt x="10765" y="8210"/>
                </a:cubicBezTo>
              </a:path>
              <a:path w="1638" h="894">
                <a:moveTo>
                  <a:pt x="11261" y="7516"/>
                </a:moveTo>
                <a:cubicBezTo>
                  <a:pt x="11122" y="7492"/>
                  <a:pt x="11058" y="7734"/>
                  <a:pt x="11038" y="7863"/>
                </a:cubicBezTo>
                <a:cubicBezTo>
                  <a:pt x="11002" y="8089"/>
                  <a:pt x="11227" y="8269"/>
                  <a:pt x="11435" y="8111"/>
                </a:cubicBezTo>
                <a:cubicBezTo>
                  <a:pt x="11627" y="7964"/>
                  <a:pt x="11595" y="7646"/>
                  <a:pt x="11385" y="7541"/>
                </a:cubicBezTo>
                <a:cubicBezTo>
                  <a:pt x="11344" y="7533"/>
                  <a:pt x="11302" y="7524"/>
                  <a:pt x="11261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5200" y="4394160"/>
            <a:ext cx="490680" cy="338040"/>
          </a:xfrm>
          <a:custGeom>
            <a:avLst/>
            <a:gdLst/>
            <a:ahLst/>
            <a:rect l="l" t="t" r="r" b="b"/>
            <a:pathLst>
              <a:path w="1365" h="943">
                <a:moveTo>
                  <a:pt x="4812" y="12229"/>
                </a:moveTo>
                <a:cubicBezTo>
                  <a:pt x="4692" y="12213"/>
                  <a:pt x="4534" y="12215"/>
                  <a:pt x="4465" y="12353"/>
                </a:cubicBezTo>
                <a:cubicBezTo>
                  <a:pt x="4385" y="12514"/>
                  <a:pt x="4568" y="12609"/>
                  <a:pt x="4663" y="12675"/>
                </a:cubicBezTo>
                <a:cubicBezTo>
                  <a:pt x="4777" y="12754"/>
                  <a:pt x="4946" y="12908"/>
                  <a:pt x="4762" y="13022"/>
                </a:cubicBezTo>
                <a:cubicBezTo>
                  <a:pt x="4660" y="13048"/>
                  <a:pt x="4625" y="13055"/>
                  <a:pt x="4564" y="12998"/>
                </a:cubicBezTo>
                <a:cubicBezTo>
                  <a:pt x="4540" y="12787"/>
                  <a:pt x="4613" y="12751"/>
                  <a:pt x="4688" y="12576"/>
                </a:cubicBezTo>
                <a:cubicBezTo>
                  <a:pt x="4708" y="12529"/>
                  <a:pt x="4700" y="12431"/>
                  <a:pt x="4713" y="12378"/>
                </a:cubicBezTo>
                <a:cubicBezTo>
                  <a:pt x="4713" y="12370"/>
                  <a:pt x="4713" y="12361"/>
                  <a:pt x="4713" y="12353"/>
                </a:cubicBezTo>
              </a:path>
              <a:path w="1365" h="943">
                <a:moveTo>
                  <a:pt x="5432" y="12278"/>
                </a:moveTo>
                <a:cubicBezTo>
                  <a:pt x="5216" y="12268"/>
                  <a:pt x="5128" y="12279"/>
                  <a:pt x="5035" y="12477"/>
                </a:cubicBezTo>
                <a:cubicBezTo>
                  <a:pt x="5145" y="12594"/>
                  <a:pt x="5470" y="12760"/>
                  <a:pt x="5383" y="12948"/>
                </a:cubicBezTo>
                <a:cubicBezTo>
                  <a:pt x="5358" y="12965"/>
                  <a:pt x="5333" y="12981"/>
                  <a:pt x="5308" y="12998"/>
                </a:cubicBezTo>
                <a:cubicBezTo>
                  <a:pt x="5122" y="12764"/>
                  <a:pt x="5281" y="12623"/>
                  <a:pt x="5383" y="12353"/>
                </a:cubicBezTo>
                <a:cubicBezTo>
                  <a:pt x="5391" y="12320"/>
                  <a:pt x="5399" y="12287"/>
                  <a:pt x="5407" y="12254"/>
                </a:cubicBezTo>
              </a:path>
              <a:path w="1365" h="943">
                <a:moveTo>
                  <a:pt x="4068" y="13097"/>
                </a:moveTo>
                <a:cubicBezTo>
                  <a:pt x="4127" y="13184"/>
                  <a:pt x="4128" y="13120"/>
                  <a:pt x="4093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30840" y="4071960"/>
            <a:ext cx="527040" cy="384120"/>
          </a:xfrm>
          <a:custGeom>
            <a:avLst/>
            <a:gdLst/>
            <a:ahLst/>
            <a:rect l="l" t="t" r="r" b="b"/>
            <a:pathLst>
              <a:path w="1465" h="1068">
                <a:moveTo>
                  <a:pt x="13419" y="11559"/>
                </a:moveTo>
                <a:cubicBezTo>
                  <a:pt x="13438" y="11627"/>
                  <a:pt x="13444" y="11680"/>
                  <a:pt x="13444" y="11757"/>
                </a:cubicBezTo>
                <a:cubicBezTo>
                  <a:pt x="13456" y="11499"/>
                  <a:pt x="13433" y="11412"/>
                  <a:pt x="13717" y="11385"/>
                </a:cubicBezTo>
                <a:cubicBezTo>
                  <a:pt x="13849" y="11385"/>
                  <a:pt x="13882" y="11385"/>
                  <a:pt x="13965" y="11385"/>
                </a:cubicBezTo>
                <a:cubicBezTo>
                  <a:pt x="13914" y="11682"/>
                  <a:pt x="13797" y="11974"/>
                  <a:pt x="13742" y="12278"/>
                </a:cubicBezTo>
                <a:cubicBezTo>
                  <a:pt x="13742" y="12295"/>
                  <a:pt x="13742" y="12311"/>
                  <a:pt x="13742" y="12328"/>
                </a:cubicBezTo>
              </a:path>
              <a:path w="1465" h="1068">
                <a:moveTo>
                  <a:pt x="14312" y="11509"/>
                </a:moveTo>
                <a:cubicBezTo>
                  <a:pt x="14432" y="11379"/>
                  <a:pt x="14501" y="11312"/>
                  <a:pt x="14660" y="11361"/>
                </a:cubicBezTo>
                <a:cubicBezTo>
                  <a:pt x="14647" y="11606"/>
                  <a:pt x="14569" y="11858"/>
                  <a:pt x="14461" y="12080"/>
                </a:cubicBezTo>
                <a:cubicBezTo>
                  <a:pt x="14359" y="12243"/>
                  <a:pt x="14335" y="12273"/>
                  <a:pt x="14288" y="12378"/>
                </a:cubicBezTo>
                <a:cubicBezTo>
                  <a:pt x="14288" y="12328"/>
                  <a:pt x="14337" y="11983"/>
                  <a:pt x="14486" y="12105"/>
                </a:cubicBezTo>
                <a:cubicBezTo>
                  <a:pt x="14576" y="12178"/>
                  <a:pt x="14634" y="12422"/>
                  <a:pt x="14808" y="12254"/>
                </a:cubicBezTo>
                <a:cubicBezTo>
                  <a:pt x="14862" y="12164"/>
                  <a:pt x="14887" y="12163"/>
                  <a:pt x="14883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urately add and subtract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To add or subtract decimals, line up the decimal points.  Then add or subtract as usual and bring the decimal point straight down.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31000" y="1108080"/>
            <a:ext cx="1492200" cy="1571760"/>
          </a:xfrm>
          <a:custGeom>
            <a:avLst/>
            <a:gdLst/>
            <a:ahLst/>
            <a:rect l="l" t="t" r="r" b="b"/>
            <a:pathLst>
              <a:path w="4143" h="4366">
                <a:moveTo>
                  <a:pt x="20265" y="3324"/>
                </a:moveTo>
                <a:cubicBezTo>
                  <a:pt x="20265" y="3591"/>
                  <a:pt x="20261" y="3853"/>
                  <a:pt x="20241" y="4118"/>
                </a:cubicBezTo>
                <a:cubicBezTo>
                  <a:pt x="20241" y="4159"/>
                  <a:pt x="20241" y="4167"/>
                  <a:pt x="20241" y="4192"/>
                </a:cubicBezTo>
              </a:path>
              <a:path w="4143" h="4366">
                <a:moveTo>
                  <a:pt x="20836" y="3994"/>
                </a:moveTo>
                <a:cubicBezTo>
                  <a:pt x="20836" y="4060"/>
                  <a:pt x="20836" y="4126"/>
                  <a:pt x="20836" y="4192"/>
                </a:cubicBezTo>
              </a:path>
              <a:path w="4143" h="4366">
                <a:moveTo>
                  <a:pt x="21183" y="3373"/>
                </a:moveTo>
                <a:cubicBezTo>
                  <a:pt x="21394" y="3314"/>
                  <a:pt x="21579" y="3294"/>
                  <a:pt x="21679" y="3547"/>
                </a:cubicBezTo>
                <a:cubicBezTo>
                  <a:pt x="21788" y="3820"/>
                  <a:pt x="21505" y="4110"/>
                  <a:pt x="21233" y="4118"/>
                </a:cubicBezTo>
                <a:cubicBezTo>
                  <a:pt x="21225" y="4101"/>
                  <a:pt x="21216" y="4085"/>
                  <a:pt x="21208" y="4068"/>
                </a:cubicBezTo>
                <a:cubicBezTo>
                  <a:pt x="21323" y="3896"/>
                  <a:pt x="21482" y="3766"/>
                  <a:pt x="21679" y="3969"/>
                </a:cubicBezTo>
                <a:cubicBezTo>
                  <a:pt x="21721" y="4052"/>
                  <a:pt x="21729" y="4068"/>
                  <a:pt x="21754" y="4118"/>
                </a:cubicBezTo>
              </a:path>
              <a:path w="4143" h="4366">
                <a:moveTo>
                  <a:pt x="22076" y="3324"/>
                </a:moveTo>
                <a:cubicBezTo>
                  <a:pt x="22177" y="3295"/>
                  <a:pt x="22442" y="3226"/>
                  <a:pt x="22448" y="3423"/>
                </a:cubicBezTo>
                <a:cubicBezTo>
                  <a:pt x="22452" y="3556"/>
                  <a:pt x="22342" y="3593"/>
                  <a:pt x="22250" y="3621"/>
                </a:cubicBezTo>
                <a:cubicBezTo>
                  <a:pt x="22368" y="3588"/>
                  <a:pt x="22640" y="3512"/>
                  <a:pt x="22622" y="3746"/>
                </a:cubicBezTo>
                <a:cubicBezTo>
                  <a:pt x="22597" y="4067"/>
                  <a:pt x="22260" y="4035"/>
                  <a:pt x="22051" y="3994"/>
                </a:cubicBezTo>
              </a:path>
              <a:path w="4143" h="4366">
                <a:moveTo>
                  <a:pt x="19496" y="3076"/>
                </a:moveTo>
                <a:cubicBezTo>
                  <a:pt x="19388" y="3142"/>
                  <a:pt x="19279" y="3209"/>
                  <a:pt x="19199" y="3299"/>
                </a:cubicBezTo>
                <a:cubicBezTo>
                  <a:pt x="19343" y="3308"/>
                  <a:pt x="19460" y="3332"/>
                  <a:pt x="19596" y="3373"/>
                </a:cubicBezTo>
                <a:cubicBezTo>
                  <a:pt x="19518" y="3594"/>
                  <a:pt x="19480" y="3560"/>
                  <a:pt x="19248" y="3621"/>
                </a:cubicBezTo>
              </a:path>
              <a:path w="4143" h="4366">
                <a:moveTo>
                  <a:pt x="19348" y="3125"/>
                </a:moveTo>
                <a:cubicBezTo>
                  <a:pt x="19379" y="3301"/>
                  <a:pt x="19448" y="3471"/>
                  <a:pt x="19496" y="3646"/>
                </a:cubicBezTo>
              </a:path>
              <a:path w="4143" h="4366">
                <a:moveTo>
                  <a:pt x="22175" y="4564"/>
                </a:moveTo>
                <a:cubicBezTo>
                  <a:pt x="22315" y="4467"/>
                  <a:pt x="22377" y="4415"/>
                  <a:pt x="22547" y="4440"/>
                </a:cubicBezTo>
                <a:cubicBezTo>
                  <a:pt x="22515" y="4639"/>
                  <a:pt x="22481" y="4704"/>
                  <a:pt x="22349" y="4862"/>
                </a:cubicBezTo>
                <a:cubicBezTo>
                  <a:pt x="22155" y="4947"/>
                  <a:pt x="22388" y="4753"/>
                  <a:pt x="22523" y="4812"/>
                </a:cubicBezTo>
                <a:cubicBezTo>
                  <a:pt x="22846" y="4952"/>
                  <a:pt x="22356" y="5202"/>
                  <a:pt x="22225" y="5209"/>
                </a:cubicBezTo>
                <a:cubicBezTo>
                  <a:pt x="22184" y="5201"/>
                  <a:pt x="22142" y="5192"/>
                  <a:pt x="22101" y="5184"/>
                </a:cubicBezTo>
              </a:path>
              <a:path w="4143" h="4366">
                <a:moveTo>
                  <a:pt x="21406" y="5507"/>
                </a:moveTo>
                <a:cubicBezTo>
                  <a:pt x="21430" y="5577"/>
                  <a:pt x="21380" y="5753"/>
                  <a:pt x="21332" y="5854"/>
                </a:cubicBezTo>
                <a:cubicBezTo>
                  <a:pt x="21324" y="5862"/>
                  <a:pt x="21315" y="5871"/>
                  <a:pt x="21307" y="5879"/>
                </a:cubicBezTo>
                <a:cubicBezTo>
                  <a:pt x="21464" y="5879"/>
                  <a:pt x="21635" y="5855"/>
                  <a:pt x="21779" y="5879"/>
                </a:cubicBezTo>
              </a:path>
              <a:path w="4143" h="4366">
                <a:moveTo>
                  <a:pt x="21779" y="5308"/>
                </a:moveTo>
                <a:cubicBezTo>
                  <a:pt x="21766" y="5590"/>
                  <a:pt x="21721" y="5870"/>
                  <a:pt x="21704" y="6152"/>
                </a:cubicBezTo>
                <a:cubicBezTo>
                  <a:pt x="21704" y="6267"/>
                  <a:pt x="21704" y="6284"/>
                  <a:pt x="21704" y="6350"/>
                </a:cubicBezTo>
              </a:path>
              <a:path w="4143" h="4366">
                <a:moveTo>
                  <a:pt x="22200" y="6201"/>
                </a:moveTo>
                <a:cubicBezTo>
                  <a:pt x="22200" y="6266"/>
                  <a:pt x="22201" y="6265"/>
                  <a:pt x="22175" y="6325"/>
                </a:cubicBezTo>
              </a:path>
              <a:path w="4143" h="4366">
                <a:moveTo>
                  <a:pt x="22647" y="5407"/>
                </a:moveTo>
                <a:cubicBezTo>
                  <a:pt x="22658" y="5672"/>
                  <a:pt x="22671" y="5935"/>
                  <a:pt x="22671" y="6201"/>
                </a:cubicBezTo>
                <a:cubicBezTo>
                  <a:pt x="22671" y="6234"/>
                  <a:pt x="22671" y="6267"/>
                  <a:pt x="22671" y="6300"/>
                </a:cubicBezTo>
              </a:path>
              <a:path w="4143" h="4366">
                <a:moveTo>
                  <a:pt x="18976" y="6573"/>
                </a:moveTo>
                <a:cubicBezTo>
                  <a:pt x="19308" y="6490"/>
                  <a:pt x="19651" y="6451"/>
                  <a:pt x="19993" y="6424"/>
                </a:cubicBezTo>
                <a:cubicBezTo>
                  <a:pt x="20745" y="6364"/>
                  <a:pt x="21500" y="6363"/>
                  <a:pt x="22250" y="6276"/>
                </a:cubicBezTo>
                <a:cubicBezTo>
                  <a:pt x="22537" y="6243"/>
                  <a:pt x="22813" y="6183"/>
                  <a:pt x="23093" y="6127"/>
                </a:cubicBezTo>
                <a:cubicBezTo>
                  <a:pt x="23101" y="6127"/>
                  <a:pt x="23110" y="6127"/>
                  <a:pt x="23118" y="6127"/>
                </a:cubicBezTo>
              </a:path>
              <a:path w="4143" h="4366">
                <a:moveTo>
                  <a:pt x="22027" y="6127"/>
                </a:moveTo>
                <a:cubicBezTo>
                  <a:pt x="22084" y="6126"/>
                  <a:pt x="22103" y="6215"/>
                  <a:pt x="22200" y="6077"/>
                </a:cubicBezTo>
                <a:cubicBezTo>
                  <a:pt x="22101" y="6102"/>
                  <a:pt x="22068" y="6110"/>
                  <a:pt x="22076" y="6201"/>
                </a:cubicBezTo>
              </a:path>
              <a:path w="4143" h="4366">
                <a:moveTo>
                  <a:pt x="22647" y="6499"/>
                </a:moveTo>
                <a:cubicBezTo>
                  <a:pt x="22779" y="6520"/>
                  <a:pt x="23038" y="6454"/>
                  <a:pt x="23044" y="6623"/>
                </a:cubicBezTo>
                <a:cubicBezTo>
                  <a:pt x="23051" y="6799"/>
                  <a:pt x="22978" y="7005"/>
                  <a:pt x="22920" y="7169"/>
                </a:cubicBezTo>
              </a:path>
              <a:path w="4143" h="4366">
                <a:moveTo>
                  <a:pt x="21605" y="6846"/>
                </a:moveTo>
                <a:cubicBezTo>
                  <a:pt x="21605" y="6780"/>
                  <a:pt x="21605" y="6714"/>
                  <a:pt x="21605" y="6648"/>
                </a:cubicBezTo>
                <a:cubicBezTo>
                  <a:pt x="21605" y="6804"/>
                  <a:pt x="21538" y="7110"/>
                  <a:pt x="21630" y="7243"/>
                </a:cubicBezTo>
                <a:cubicBezTo>
                  <a:pt x="21655" y="7260"/>
                  <a:pt x="21679" y="7276"/>
                  <a:pt x="21704" y="7293"/>
                </a:cubicBezTo>
                <a:cubicBezTo>
                  <a:pt x="21883" y="7187"/>
                  <a:pt x="21948" y="7116"/>
                  <a:pt x="22027" y="6921"/>
                </a:cubicBezTo>
                <a:cubicBezTo>
                  <a:pt x="21827" y="6905"/>
                  <a:pt x="21752" y="7053"/>
                  <a:pt x="21679" y="7243"/>
                </a:cubicBezTo>
                <a:cubicBezTo>
                  <a:pt x="21679" y="7260"/>
                  <a:pt x="21679" y="7276"/>
                  <a:pt x="21679" y="7293"/>
                </a:cubicBezTo>
              </a:path>
              <a:path w="4143" h="4366">
                <a:moveTo>
                  <a:pt x="20638" y="6747"/>
                </a:moveTo>
                <a:cubicBezTo>
                  <a:pt x="20689" y="6977"/>
                  <a:pt x="20757" y="7210"/>
                  <a:pt x="20786" y="7441"/>
                </a:cubicBezTo>
              </a:path>
              <a:path w="4143" h="4366">
                <a:moveTo>
                  <a:pt x="21282" y="7243"/>
                </a:moveTo>
                <a:cubicBezTo>
                  <a:pt x="21299" y="7251"/>
                  <a:pt x="21315" y="7260"/>
                  <a:pt x="21332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0840" y="3197160"/>
            <a:ext cx="1214280" cy="27000"/>
          </a:xfrm>
          <a:custGeom>
            <a:avLst/>
            <a:gdLst/>
            <a:ahLst/>
            <a:rect l="l" t="t" r="r" b="b"/>
            <a:pathLst>
              <a:path w="3374" h="75">
                <a:moveTo>
                  <a:pt x="16669" y="8905"/>
                </a:moveTo>
                <a:cubicBezTo>
                  <a:pt x="16800" y="8894"/>
                  <a:pt x="16909" y="8902"/>
                  <a:pt x="17041" y="8905"/>
                </a:cubicBezTo>
                <a:cubicBezTo>
                  <a:pt x="17200" y="8909"/>
                  <a:pt x="17352" y="8930"/>
                  <a:pt x="17512" y="8930"/>
                </a:cubicBezTo>
                <a:cubicBezTo>
                  <a:pt x="17746" y="8930"/>
                  <a:pt x="17978" y="8930"/>
                  <a:pt x="18207" y="8954"/>
                </a:cubicBezTo>
                <a:cubicBezTo>
                  <a:pt x="18345" y="8968"/>
                  <a:pt x="18484" y="8913"/>
                  <a:pt x="18628" y="8930"/>
                </a:cubicBezTo>
                <a:cubicBezTo>
                  <a:pt x="18784" y="8949"/>
                  <a:pt x="18962" y="8945"/>
                  <a:pt x="19124" y="8930"/>
                </a:cubicBezTo>
                <a:cubicBezTo>
                  <a:pt x="19308" y="8913"/>
                  <a:pt x="19484" y="8905"/>
                  <a:pt x="19670" y="8905"/>
                </a:cubicBezTo>
                <a:cubicBezTo>
                  <a:pt x="19794" y="8905"/>
                  <a:pt x="19918" y="8905"/>
                  <a:pt x="20042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3160" y="4116240"/>
            <a:ext cx="2000160" cy="1509840"/>
          </a:xfrm>
          <a:custGeom>
            <a:avLst/>
            <a:gdLst/>
            <a:ahLst/>
            <a:rect l="l" t="t" r="r" b="b"/>
            <a:pathLst>
              <a:path w="5558" h="4193">
                <a:moveTo>
                  <a:pt x="20687" y="11485"/>
                </a:moveTo>
                <a:cubicBezTo>
                  <a:pt x="20718" y="11789"/>
                  <a:pt x="20690" y="12095"/>
                  <a:pt x="20687" y="12402"/>
                </a:cubicBezTo>
                <a:cubicBezTo>
                  <a:pt x="20687" y="12543"/>
                  <a:pt x="20687" y="12551"/>
                  <a:pt x="20687" y="12626"/>
                </a:cubicBezTo>
              </a:path>
              <a:path w="5558" h="4193">
                <a:moveTo>
                  <a:pt x="21233" y="12353"/>
                </a:moveTo>
                <a:lnTo>
                  <a:pt x="21233" y="12353"/>
                </a:lnTo>
              </a:path>
              <a:path w="5558" h="4193">
                <a:moveTo>
                  <a:pt x="21853" y="11658"/>
                </a:moveTo>
                <a:cubicBezTo>
                  <a:pt x="22077" y="11658"/>
                  <a:pt x="22437" y="11801"/>
                  <a:pt x="22324" y="12129"/>
                </a:cubicBezTo>
                <a:cubicBezTo>
                  <a:pt x="22202" y="12483"/>
                  <a:pt x="21855" y="12474"/>
                  <a:pt x="21704" y="12254"/>
                </a:cubicBezTo>
                <a:cubicBezTo>
                  <a:pt x="21969" y="12120"/>
                  <a:pt x="22208" y="12114"/>
                  <a:pt x="22448" y="12353"/>
                </a:cubicBezTo>
                <a:cubicBezTo>
                  <a:pt x="22465" y="12386"/>
                  <a:pt x="22481" y="12419"/>
                  <a:pt x="22498" y="12452"/>
                </a:cubicBezTo>
              </a:path>
              <a:path w="5558" h="4193">
                <a:moveTo>
                  <a:pt x="22845" y="11485"/>
                </a:moveTo>
                <a:cubicBezTo>
                  <a:pt x="22884" y="11471"/>
                  <a:pt x="23331" y="11366"/>
                  <a:pt x="23267" y="11584"/>
                </a:cubicBezTo>
                <a:cubicBezTo>
                  <a:pt x="23218" y="11751"/>
                  <a:pt x="23030" y="11787"/>
                  <a:pt x="22895" y="11832"/>
                </a:cubicBezTo>
                <a:cubicBezTo>
                  <a:pt x="23043" y="11758"/>
                  <a:pt x="23537" y="11619"/>
                  <a:pt x="23440" y="12005"/>
                </a:cubicBezTo>
                <a:cubicBezTo>
                  <a:pt x="23378" y="12252"/>
                  <a:pt x="23027" y="12385"/>
                  <a:pt x="22820" y="12278"/>
                </a:cubicBezTo>
                <a:cubicBezTo>
                  <a:pt x="22820" y="12270"/>
                  <a:pt x="22820" y="12262"/>
                  <a:pt x="22820" y="12254"/>
                </a:cubicBezTo>
              </a:path>
              <a:path w="5558" h="4193">
                <a:moveTo>
                  <a:pt x="18752" y="13196"/>
                </a:moveTo>
                <a:cubicBezTo>
                  <a:pt x="18817" y="13455"/>
                  <a:pt x="18836" y="13674"/>
                  <a:pt x="18802" y="13940"/>
                </a:cubicBezTo>
              </a:path>
              <a:path w="5558" h="4193">
                <a:moveTo>
                  <a:pt x="18479" y="13618"/>
                </a:moveTo>
                <a:cubicBezTo>
                  <a:pt x="18786" y="13588"/>
                  <a:pt x="19089" y="13557"/>
                  <a:pt x="19397" y="13543"/>
                </a:cubicBezTo>
              </a:path>
              <a:path w="5558" h="4193">
                <a:moveTo>
                  <a:pt x="20389" y="13146"/>
                </a:moveTo>
                <a:cubicBezTo>
                  <a:pt x="20559" y="13123"/>
                  <a:pt x="20690" y="13090"/>
                  <a:pt x="20861" y="13097"/>
                </a:cubicBezTo>
                <a:cubicBezTo>
                  <a:pt x="20897" y="13356"/>
                  <a:pt x="20807" y="13439"/>
                  <a:pt x="20538" y="13519"/>
                </a:cubicBezTo>
                <a:cubicBezTo>
                  <a:pt x="20522" y="13519"/>
                  <a:pt x="20505" y="13519"/>
                  <a:pt x="20489" y="13519"/>
                </a:cubicBezTo>
                <a:cubicBezTo>
                  <a:pt x="20651" y="13496"/>
                  <a:pt x="21162" y="13495"/>
                  <a:pt x="20886" y="13841"/>
                </a:cubicBezTo>
                <a:cubicBezTo>
                  <a:pt x="20707" y="14066"/>
                  <a:pt x="20398" y="14049"/>
                  <a:pt x="20241" y="13891"/>
                </a:cubicBezTo>
              </a:path>
              <a:path w="5558" h="4193">
                <a:moveTo>
                  <a:pt x="21357" y="13767"/>
                </a:moveTo>
                <a:cubicBezTo>
                  <a:pt x="21284" y="13798"/>
                  <a:pt x="21292" y="13801"/>
                  <a:pt x="21282" y="13891"/>
                </a:cubicBezTo>
                <a:cubicBezTo>
                  <a:pt x="21421" y="13870"/>
                  <a:pt x="21529" y="13841"/>
                  <a:pt x="21382" y="13742"/>
                </a:cubicBezTo>
              </a:path>
              <a:path w="5558" h="4193">
                <a:moveTo>
                  <a:pt x="22051" y="13047"/>
                </a:moveTo>
                <a:cubicBezTo>
                  <a:pt x="21872" y="13047"/>
                  <a:pt x="21833" y="13459"/>
                  <a:pt x="21878" y="13618"/>
                </a:cubicBezTo>
                <a:cubicBezTo>
                  <a:pt x="22013" y="14096"/>
                  <a:pt x="22449" y="13647"/>
                  <a:pt x="22547" y="13469"/>
                </a:cubicBezTo>
                <a:cubicBezTo>
                  <a:pt x="22330" y="13252"/>
                  <a:pt x="22263" y="13180"/>
                  <a:pt x="22051" y="13146"/>
                </a:cubicBezTo>
              </a:path>
              <a:path w="5558" h="4193">
                <a:moveTo>
                  <a:pt x="23416" y="13022"/>
                </a:moveTo>
                <a:cubicBezTo>
                  <a:pt x="23174" y="13102"/>
                  <a:pt x="22919" y="13372"/>
                  <a:pt x="22944" y="13667"/>
                </a:cubicBezTo>
                <a:cubicBezTo>
                  <a:pt x="22992" y="14219"/>
                  <a:pt x="23672" y="13481"/>
                  <a:pt x="23738" y="13395"/>
                </a:cubicBezTo>
              </a:path>
              <a:path w="5558" h="4193">
                <a:moveTo>
                  <a:pt x="21258" y="12353"/>
                </a:moveTo>
                <a:cubicBezTo>
                  <a:pt x="21229" y="12448"/>
                  <a:pt x="21224" y="12458"/>
                  <a:pt x="21282" y="12526"/>
                </a:cubicBezTo>
                <a:cubicBezTo>
                  <a:pt x="21349" y="12467"/>
                  <a:pt x="21437" y="12199"/>
                  <a:pt x="21233" y="12278"/>
                </a:cubicBezTo>
                <a:cubicBezTo>
                  <a:pt x="21141" y="12371"/>
                  <a:pt x="21112" y="12395"/>
                  <a:pt x="21084" y="12477"/>
                </a:cubicBezTo>
              </a:path>
              <a:path w="5558" h="4193">
                <a:moveTo>
                  <a:pt x="20638" y="14436"/>
                </a:moveTo>
                <a:cubicBezTo>
                  <a:pt x="20784" y="14439"/>
                  <a:pt x="20566" y="14737"/>
                  <a:pt x="20538" y="14833"/>
                </a:cubicBezTo>
                <a:cubicBezTo>
                  <a:pt x="20479" y="15034"/>
                  <a:pt x="21010" y="14875"/>
                  <a:pt x="21109" y="14858"/>
                </a:cubicBezTo>
              </a:path>
              <a:path w="5558" h="4193">
                <a:moveTo>
                  <a:pt x="20985" y="14163"/>
                </a:moveTo>
                <a:cubicBezTo>
                  <a:pt x="20997" y="14461"/>
                  <a:pt x="21030" y="14757"/>
                  <a:pt x="21034" y="15056"/>
                </a:cubicBezTo>
                <a:cubicBezTo>
                  <a:pt x="21034" y="15197"/>
                  <a:pt x="21034" y="15221"/>
                  <a:pt x="21034" y="15304"/>
                </a:cubicBezTo>
              </a:path>
              <a:path w="5558" h="4193">
                <a:moveTo>
                  <a:pt x="21580" y="15081"/>
                </a:moveTo>
                <a:cubicBezTo>
                  <a:pt x="21531" y="15178"/>
                  <a:pt x="21515" y="15208"/>
                  <a:pt x="21506" y="15280"/>
                </a:cubicBezTo>
                <a:cubicBezTo>
                  <a:pt x="21621" y="15222"/>
                  <a:pt x="21627" y="15241"/>
                  <a:pt x="21654" y="15106"/>
                </a:cubicBezTo>
              </a:path>
              <a:path w="5558" h="4193">
                <a:moveTo>
                  <a:pt x="22324" y="14312"/>
                </a:moveTo>
                <a:cubicBezTo>
                  <a:pt x="22342" y="14543"/>
                  <a:pt x="22330" y="14776"/>
                  <a:pt x="22349" y="15007"/>
                </a:cubicBezTo>
                <a:cubicBezTo>
                  <a:pt x="22357" y="15048"/>
                  <a:pt x="22366" y="15090"/>
                  <a:pt x="22374" y="15131"/>
                </a:cubicBezTo>
              </a:path>
              <a:path w="5558" h="4193">
                <a:moveTo>
                  <a:pt x="23416" y="14387"/>
                </a:moveTo>
                <a:cubicBezTo>
                  <a:pt x="23205" y="14386"/>
                  <a:pt x="22997" y="14694"/>
                  <a:pt x="23068" y="14932"/>
                </a:cubicBezTo>
                <a:cubicBezTo>
                  <a:pt x="23183" y="15315"/>
                  <a:pt x="23811" y="14942"/>
                  <a:pt x="23738" y="14635"/>
                </a:cubicBezTo>
                <a:cubicBezTo>
                  <a:pt x="23680" y="14577"/>
                  <a:pt x="23622" y="14519"/>
                  <a:pt x="23564" y="14461"/>
                </a:cubicBezTo>
              </a:path>
              <a:path w="5558" h="4193">
                <a:moveTo>
                  <a:pt x="20265" y="15627"/>
                </a:moveTo>
                <a:cubicBezTo>
                  <a:pt x="21042" y="15549"/>
                  <a:pt x="21816" y="15536"/>
                  <a:pt x="22597" y="15528"/>
                </a:cubicBezTo>
                <a:cubicBezTo>
                  <a:pt x="23040" y="15523"/>
                  <a:pt x="23605" y="15528"/>
                  <a:pt x="24036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4800" y="3562200"/>
            <a:ext cx="1278000" cy="27000"/>
          </a:xfrm>
          <a:custGeom>
            <a:avLst/>
            <a:gdLst/>
            <a:ahLst/>
            <a:rect l="l" t="t" r="r" b="b"/>
            <a:pathLst>
              <a:path w="3548" h="75">
                <a:moveTo>
                  <a:pt x="2431" y="9971"/>
                </a:moveTo>
                <a:cubicBezTo>
                  <a:pt x="2594" y="9931"/>
                  <a:pt x="2734" y="9922"/>
                  <a:pt x="2902" y="9922"/>
                </a:cubicBezTo>
                <a:cubicBezTo>
                  <a:pt x="3136" y="9922"/>
                  <a:pt x="3364" y="9943"/>
                  <a:pt x="3597" y="9947"/>
                </a:cubicBezTo>
                <a:cubicBezTo>
                  <a:pt x="3788" y="9950"/>
                  <a:pt x="3975" y="9971"/>
                  <a:pt x="4167" y="9971"/>
                </a:cubicBezTo>
                <a:cubicBezTo>
                  <a:pt x="4483" y="9971"/>
                  <a:pt x="4798" y="9972"/>
                  <a:pt x="5110" y="9947"/>
                </a:cubicBezTo>
                <a:cubicBezTo>
                  <a:pt x="5210" y="9939"/>
                  <a:pt x="5309" y="9930"/>
                  <a:pt x="5407" y="9922"/>
                </a:cubicBezTo>
                <a:cubicBezTo>
                  <a:pt x="5484" y="9916"/>
                  <a:pt x="5559" y="9906"/>
                  <a:pt x="5631" y="9897"/>
                </a:cubicBezTo>
                <a:cubicBezTo>
                  <a:pt x="5743" y="9883"/>
                  <a:pt x="5865" y="9897"/>
                  <a:pt x="5978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91200" y="1143000"/>
            <a:ext cx="1117800" cy="1206360"/>
          </a:xfrm>
          <a:custGeom>
            <a:avLst/>
            <a:gdLst/>
            <a:ahLst/>
            <a:rect l="l" t="t" r="r" b="b"/>
            <a:pathLst>
              <a:path w="3102" h="3350">
                <a:moveTo>
                  <a:pt x="19422" y="3175"/>
                </a:moveTo>
                <a:cubicBezTo>
                  <a:pt x="19773" y="3446"/>
                  <a:pt x="20057" y="3754"/>
                  <a:pt x="20365" y="4093"/>
                </a:cubicBezTo>
                <a:cubicBezTo>
                  <a:pt x="20965" y="4753"/>
                  <a:pt x="21534" y="5437"/>
                  <a:pt x="22126" y="6102"/>
                </a:cubicBezTo>
                <a:cubicBezTo>
                  <a:pt x="22361" y="6338"/>
                  <a:pt x="22406" y="6370"/>
                  <a:pt x="22523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83320" y="1133640"/>
            <a:ext cx="660600" cy="1482480"/>
          </a:xfrm>
          <a:custGeom>
            <a:avLst/>
            <a:gdLst/>
            <a:ahLst/>
            <a:rect l="l" t="t" r="r" b="b"/>
            <a:pathLst>
              <a:path w="1837" h="4119">
                <a:moveTo>
                  <a:pt x="22622" y="3150"/>
                </a:moveTo>
                <a:cubicBezTo>
                  <a:pt x="22146" y="3901"/>
                  <a:pt x="21778" y="4723"/>
                  <a:pt x="21406" y="5531"/>
                </a:cubicBezTo>
                <a:cubicBezTo>
                  <a:pt x="21214" y="5947"/>
                  <a:pt x="21000" y="6374"/>
                  <a:pt x="20886" y="6821"/>
                </a:cubicBezTo>
                <a:cubicBezTo>
                  <a:pt x="20862" y="6917"/>
                  <a:pt x="20836" y="6999"/>
                  <a:pt x="20811" y="7094"/>
                </a:cubicBezTo>
                <a:cubicBezTo>
                  <a:pt x="20791" y="7193"/>
                  <a:pt x="20783" y="7209"/>
                  <a:pt x="20786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08960" y="3081240"/>
            <a:ext cx="17280" cy="1800"/>
          </a:xfrm>
          <a:custGeom>
            <a:avLst/>
            <a:gdLst/>
            <a:ahLst/>
            <a:rect l="l" t="t" r="r" b="b"/>
            <a:pathLst>
              <a:path w="50" h="1">
                <a:moveTo>
                  <a:pt x="21134" y="8558"/>
                </a:moveTo>
                <a:cubicBezTo>
                  <a:pt x="21150" y="8558"/>
                  <a:pt x="21167" y="8558"/>
                  <a:pt x="21183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9240" y="3938760"/>
            <a:ext cx="152640" cy="1660320"/>
          </a:xfrm>
          <a:custGeom>
            <a:avLst/>
            <a:gdLst/>
            <a:ahLst/>
            <a:rect l="l" t="t" r="r" b="b"/>
            <a:pathLst>
              <a:path w="422" h="4615">
                <a:moveTo>
                  <a:pt x="21109" y="10939"/>
                </a:moveTo>
                <a:cubicBezTo>
                  <a:pt x="21109" y="11115"/>
                  <a:pt x="21130" y="11285"/>
                  <a:pt x="21134" y="11460"/>
                </a:cubicBezTo>
                <a:cubicBezTo>
                  <a:pt x="21137" y="11603"/>
                  <a:pt x="21173" y="11766"/>
                  <a:pt x="21158" y="11906"/>
                </a:cubicBezTo>
                <a:cubicBezTo>
                  <a:pt x="21144" y="12036"/>
                  <a:pt x="21120" y="12170"/>
                  <a:pt x="21134" y="12303"/>
                </a:cubicBezTo>
                <a:cubicBezTo>
                  <a:pt x="21147" y="12421"/>
                  <a:pt x="21204" y="12512"/>
                  <a:pt x="21233" y="12626"/>
                </a:cubicBezTo>
                <a:cubicBezTo>
                  <a:pt x="21287" y="12839"/>
                  <a:pt x="21361" y="13055"/>
                  <a:pt x="21406" y="13271"/>
                </a:cubicBezTo>
                <a:cubicBezTo>
                  <a:pt x="21446" y="13465"/>
                  <a:pt x="21477" y="13669"/>
                  <a:pt x="21481" y="13866"/>
                </a:cubicBezTo>
                <a:cubicBezTo>
                  <a:pt x="21484" y="14019"/>
                  <a:pt x="21476" y="14161"/>
                  <a:pt x="21506" y="14312"/>
                </a:cubicBezTo>
                <a:cubicBezTo>
                  <a:pt x="21535" y="14454"/>
                  <a:pt x="21530" y="14589"/>
                  <a:pt x="21530" y="14734"/>
                </a:cubicBezTo>
                <a:cubicBezTo>
                  <a:pt x="21530" y="14899"/>
                  <a:pt x="21528" y="15067"/>
                  <a:pt x="21506" y="15230"/>
                </a:cubicBezTo>
                <a:cubicBezTo>
                  <a:pt x="21491" y="15341"/>
                  <a:pt x="21481" y="15441"/>
                  <a:pt x="21481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urately add and subtract decimals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Examples:  We must always line up the decimals by the decimal point and write zeros in any “empty” plac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6.02 + 4.9  we writ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8.284 – 3.5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rite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5 + 2.859 we writ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5680" y="2571840"/>
            <a:ext cx="955440" cy="2608200"/>
          </a:xfrm>
          <a:custGeom>
            <a:avLst/>
            <a:gdLst/>
            <a:ahLst/>
            <a:rect l="l" t="t" r="r" b="b"/>
            <a:pathLst>
              <a:path w="2655" h="7244">
                <a:moveTo>
                  <a:pt x="17537" y="9203"/>
                </a:moveTo>
                <a:cubicBezTo>
                  <a:pt x="17725" y="9203"/>
                  <a:pt x="17897" y="9185"/>
                  <a:pt x="18083" y="9203"/>
                </a:cubicBezTo>
                <a:cubicBezTo>
                  <a:pt x="18373" y="9231"/>
                  <a:pt x="18660" y="9227"/>
                  <a:pt x="18951" y="9227"/>
                </a:cubicBezTo>
                <a:cubicBezTo>
                  <a:pt x="19025" y="9227"/>
                  <a:pt x="19034" y="9227"/>
                  <a:pt x="19075" y="9227"/>
                </a:cubicBezTo>
              </a:path>
              <a:path w="2655" h="7244">
                <a:moveTo>
                  <a:pt x="18182" y="7144"/>
                </a:moveTo>
                <a:cubicBezTo>
                  <a:pt x="18068" y="7277"/>
                  <a:pt x="18023" y="7386"/>
                  <a:pt x="18008" y="7565"/>
                </a:cubicBezTo>
                <a:cubicBezTo>
                  <a:pt x="17995" y="7728"/>
                  <a:pt x="18023" y="7945"/>
                  <a:pt x="18231" y="7962"/>
                </a:cubicBezTo>
                <a:cubicBezTo>
                  <a:pt x="18377" y="7974"/>
                  <a:pt x="18483" y="7875"/>
                  <a:pt x="18554" y="7764"/>
                </a:cubicBezTo>
                <a:cubicBezTo>
                  <a:pt x="18604" y="7685"/>
                  <a:pt x="18524" y="7586"/>
                  <a:pt x="18430" y="7615"/>
                </a:cubicBezTo>
                <a:cubicBezTo>
                  <a:pt x="18274" y="7663"/>
                  <a:pt x="18265" y="7858"/>
                  <a:pt x="18256" y="7987"/>
                </a:cubicBezTo>
              </a:path>
              <a:path w="2655" h="7244">
                <a:moveTo>
                  <a:pt x="18579" y="8409"/>
                </a:moveTo>
                <a:cubicBezTo>
                  <a:pt x="18519" y="8426"/>
                  <a:pt x="18268" y="8455"/>
                  <a:pt x="18231" y="8483"/>
                </a:cubicBezTo>
                <a:cubicBezTo>
                  <a:pt x="18141" y="8553"/>
                  <a:pt x="18182" y="8731"/>
                  <a:pt x="18182" y="8830"/>
                </a:cubicBezTo>
                <a:cubicBezTo>
                  <a:pt x="18250" y="8749"/>
                  <a:pt x="18348" y="8614"/>
                  <a:pt x="18479" y="8657"/>
                </a:cubicBezTo>
                <a:cubicBezTo>
                  <a:pt x="18591" y="8694"/>
                  <a:pt x="18646" y="8830"/>
                  <a:pt x="18579" y="8930"/>
                </a:cubicBezTo>
                <a:cubicBezTo>
                  <a:pt x="18508" y="9036"/>
                  <a:pt x="18353" y="9093"/>
                  <a:pt x="18231" y="9054"/>
                </a:cubicBezTo>
                <a:cubicBezTo>
                  <a:pt x="18223" y="9046"/>
                  <a:pt x="18215" y="9037"/>
                  <a:pt x="18207" y="9029"/>
                </a:cubicBezTo>
              </a:path>
              <a:path w="2655" h="7244">
                <a:moveTo>
                  <a:pt x="18207" y="9451"/>
                </a:moveTo>
                <a:cubicBezTo>
                  <a:pt x="18175" y="9686"/>
                  <a:pt x="18164" y="9930"/>
                  <a:pt x="18157" y="10170"/>
                </a:cubicBezTo>
                <a:cubicBezTo>
                  <a:pt x="18157" y="10187"/>
                  <a:pt x="18157" y="10203"/>
                  <a:pt x="18157" y="10220"/>
                </a:cubicBezTo>
              </a:path>
              <a:path w="2655" h="7244">
                <a:moveTo>
                  <a:pt x="18579" y="9475"/>
                </a:moveTo>
                <a:cubicBezTo>
                  <a:pt x="18622" y="9688"/>
                  <a:pt x="18628" y="9878"/>
                  <a:pt x="18628" y="10096"/>
                </a:cubicBezTo>
              </a:path>
              <a:path w="2655" h="7244">
                <a:moveTo>
                  <a:pt x="18752" y="11162"/>
                </a:moveTo>
                <a:cubicBezTo>
                  <a:pt x="18625" y="11034"/>
                  <a:pt x="18371" y="11085"/>
                  <a:pt x="18231" y="11212"/>
                </a:cubicBezTo>
                <a:cubicBezTo>
                  <a:pt x="18215" y="11253"/>
                  <a:pt x="18198" y="11295"/>
                  <a:pt x="18182" y="11336"/>
                </a:cubicBezTo>
                <a:cubicBezTo>
                  <a:pt x="18294" y="11436"/>
                  <a:pt x="18713" y="11564"/>
                  <a:pt x="18604" y="11757"/>
                </a:cubicBezTo>
                <a:cubicBezTo>
                  <a:pt x="18494" y="11845"/>
                  <a:pt x="18471" y="11883"/>
                  <a:pt x="18380" y="11832"/>
                </a:cubicBezTo>
                <a:cubicBezTo>
                  <a:pt x="18420" y="11576"/>
                  <a:pt x="18504" y="11395"/>
                  <a:pt x="18628" y="11162"/>
                </a:cubicBezTo>
              </a:path>
              <a:path w="2655" h="7244">
                <a:moveTo>
                  <a:pt x="18976" y="11733"/>
                </a:moveTo>
                <a:cubicBezTo>
                  <a:pt x="18976" y="11749"/>
                  <a:pt x="18976" y="11766"/>
                  <a:pt x="18976" y="11782"/>
                </a:cubicBezTo>
              </a:path>
              <a:path w="2655" h="7244">
                <a:moveTo>
                  <a:pt x="19174" y="11063"/>
                </a:moveTo>
                <a:cubicBezTo>
                  <a:pt x="19256" y="11026"/>
                  <a:pt x="19670" y="10840"/>
                  <a:pt x="19521" y="11112"/>
                </a:cubicBezTo>
                <a:cubicBezTo>
                  <a:pt x="19391" y="11263"/>
                  <a:pt x="19363" y="11300"/>
                  <a:pt x="19273" y="11385"/>
                </a:cubicBezTo>
                <a:cubicBezTo>
                  <a:pt x="19484" y="11245"/>
                  <a:pt x="19544" y="11196"/>
                  <a:pt x="19720" y="11237"/>
                </a:cubicBezTo>
                <a:cubicBezTo>
                  <a:pt x="19665" y="11536"/>
                  <a:pt x="19651" y="11502"/>
                  <a:pt x="19372" y="11658"/>
                </a:cubicBezTo>
              </a:path>
              <a:path w="2655" h="7244">
                <a:moveTo>
                  <a:pt x="18554" y="12452"/>
                </a:moveTo>
                <a:cubicBezTo>
                  <a:pt x="18647" y="12335"/>
                  <a:pt x="18668" y="12307"/>
                  <a:pt x="18802" y="12254"/>
                </a:cubicBezTo>
                <a:cubicBezTo>
                  <a:pt x="18870" y="12457"/>
                  <a:pt x="18799" y="12519"/>
                  <a:pt x="18653" y="12675"/>
                </a:cubicBezTo>
                <a:cubicBezTo>
                  <a:pt x="18802" y="12638"/>
                  <a:pt x="19002" y="12713"/>
                  <a:pt x="18827" y="12923"/>
                </a:cubicBezTo>
                <a:cubicBezTo>
                  <a:pt x="18710" y="13063"/>
                  <a:pt x="18514" y="13122"/>
                  <a:pt x="18529" y="12923"/>
                </a:cubicBezTo>
              </a:path>
              <a:path w="2655" h="7244">
                <a:moveTo>
                  <a:pt x="19100" y="12849"/>
                </a:moveTo>
                <a:cubicBezTo>
                  <a:pt x="19127" y="12904"/>
                  <a:pt x="19135" y="12927"/>
                  <a:pt x="19124" y="12973"/>
                </a:cubicBezTo>
              </a:path>
              <a:path w="2655" h="7244">
                <a:moveTo>
                  <a:pt x="19621" y="12229"/>
                </a:moveTo>
                <a:cubicBezTo>
                  <a:pt x="19510" y="12309"/>
                  <a:pt x="19426" y="12315"/>
                  <a:pt x="19372" y="12452"/>
                </a:cubicBezTo>
                <a:cubicBezTo>
                  <a:pt x="19332" y="12575"/>
                  <a:pt x="19315" y="12597"/>
                  <a:pt x="19323" y="12675"/>
                </a:cubicBezTo>
                <a:cubicBezTo>
                  <a:pt x="19438" y="12627"/>
                  <a:pt x="19682" y="12476"/>
                  <a:pt x="19794" y="12601"/>
                </a:cubicBezTo>
                <a:cubicBezTo>
                  <a:pt x="19994" y="12824"/>
                  <a:pt x="19487" y="12904"/>
                  <a:pt x="19397" y="12923"/>
                </a:cubicBezTo>
              </a:path>
              <a:path w="2655" h="7244">
                <a:moveTo>
                  <a:pt x="18157" y="12576"/>
                </a:moveTo>
                <a:cubicBezTo>
                  <a:pt x="18281" y="12590"/>
                  <a:pt x="18520" y="12506"/>
                  <a:pt x="18380" y="12626"/>
                </a:cubicBezTo>
              </a:path>
              <a:path w="2655" h="7244">
                <a:moveTo>
                  <a:pt x="18752" y="11063"/>
                </a:moveTo>
                <a:cubicBezTo>
                  <a:pt x="18453" y="11268"/>
                  <a:pt x="18291" y="11674"/>
                  <a:pt x="18107" y="12005"/>
                </a:cubicBezTo>
                <a:cubicBezTo>
                  <a:pt x="18082" y="12055"/>
                  <a:pt x="18058" y="12104"/>
                  <a:pt x="18033" y="12154"/>
                </a:cubicBezTo>
              </a:path>
              <a:path w="2655" h="7244">
                <a:moveTo>
                  <a:pt x="18256" y="10592"/>
                </a:moveTo>
                <a:cubicBezTo>
                  <a:pt x="18383" y="10528"/>
                  <a:pt x="18497" y="10528"/>
                  <a:pt x="18628" y="10492"/>
                </a:cubicBezTo>
                <a:cubicBezTo>
                  <a:pt x="18588" y="10670"/>
                  <a:pt x="18537" y="10840"/>
                  <a:pt x="18479" y="11013"/>
                </a:cubicBezTo>
              </a:path>
              <a:path w="2655" h="7244">
                <a:moveTo>
                  <a:pt x="19025" y="11088"/>
                </a:moveTo>
                <a:cubicBezTo>
                  <a:pt x="19025" y="10903"/>
                  <a:pt x="19039" y="11160"/>
                  <a:pt x="19050" y="11212"/>
                </a:cubicBezTo>
                <a:cubicBezTo>
                  <a:pt x="19091" y="11409"/>
                  <a:pt x="19075" y="11166"/>
                  <a:pt x="19075" y="11137"/>
                </a:cubicBezTo>
                <a:cubicBezTo>
                  <a:pt x="19075" y="11120"/>
                  <a:pt x="19084" y="10973"/>
                  <a:pt x="19075" y="11038"/>
                </a:cubicBezTo>
                <a:cubicBezTo>
                  <a:pt x="19051" y="11203"/>
                  <a:pt x="19043" y="11252"/>
                  <a:pt x="19050" y="11361"/>
                </a:cubicBezTo>
                <a:cubicBezTo>
                  <a:pt x="19104" y="11464"/>
                  <a:pt x="19075" y="11193"/>
                  <a:pt x="19075" y="11137"/>
                </a:cubicBezTo>
                <a:cubicBezTo>
                  <a:pt x="19075" y="11096"/>
                  <a:pt x="19075" y="11088"/>
                  <a:pt x="19075" y="11063"/>
                </a:cubicBezTo>
              </a:path>
              <a:path w="2655" h="7244">
                <a:moveTo>
                  <a:pt x="19844" y="13568"/>
                </a:moveTo>
                <a:cubicBezTo>
                  <a:pt x="19974" y="13370"/>
                  <a:pt x="19588" y="13539"/>
                  <a:pt x="19521" y="13593"/>
                </a:cubicBezTo>
                <a:cubicBezTo>
                  <a:pt x="19488" y="13634"/>
                  <a:pt x="19455" y="13676"/>
                  <a:pt x="19422" y="13717"/>
                </a:cubicBezTo>
                <a:cubicBezTo>
                  <a:pt x="19559" y="13805"/>
                  <a:pt x="19927" y="13864"/>
                  <a:pt x="19869" y="14114"/>
                </a:cubicBezTo>
                <a:cubicBezTo>
                  <a:pt x="19782" y="14222"/>
                  <a:pt x="19768" y="14264"/>
                  <a:pt x="19670" y="14238"/>
                </a:cubicBezTo>
                <a:cubicBezTo>
                  <a:pt x="19678" y="13983"/>
                  <a:pt x="19771" y="13830"/>
                  <a:pt x="19844" y="13593"/>
                </a:cubicBezTo>
              </a:path>
              <a:path w="2655" h="7244">
                <a:moveTo>
                  <a:pt x="19224" y="14188"/>
                </a:moveTo>
                <a:cubicBezTo>
                  <a:pt x="19175" y="14227"/>
                  <a:pt x="19105" y="14434"/>
                  <a:pt x="19174" y="14387"/>
                </a:cubicBezTo>
                <a:cubicBezTo>
                  <a:pt x="19271" y="14320"/>
                  <a:pt x="19261" y="14275"/>
                  <a:pt x="19199" y="14213"/>
                </a:cubicBezTo>
                <a:cubicBezTo>
                  <a:pt x="19142" y="14366"/>
                  <a:pt x="19195" y="14277"/>
                  <a:pt x="19248" y="14213"/>
                </a:cubicBezTo>
              </a:path>
              <a:path w="2655" h="7244">
                <a:moveTo>
                  <a:pt x="18455" y="13568"/>
                </a:moveTo>
                <a:cubicBezTo>
                  <a:pt x="18444" y="13722"/>
                  <a:pt x="18429" y="13819"/>
                  <a:pt x="18380" y="13965"/>
                </a:cubicBezTo>
                <a:cubicBezTo>
                  <a:pt x="18535" y="13948"/>
                  <a:pt x="18656" y="13890"/>
                  <a:pt x="18802" y="13841"/>
                </a:cubicBezTo>
              </a:path>
              <a:path w="2655" h="7244">
                <a:moveTo>
                  <a:pt x="18653" y="13345"/>
                </a:moveTo>
                <a:cubicBezTo>
                  <a:pt x="18629" y="13660"/>
                  <a:pt x="18628" y="13972"/>
                  <a:pt x="18628" y="14288"/>
                </a:cubicBezTo>
              </a:path>
              <a:path w="2655" h="7244">
                <a:moveTo>
                  <a:pt x="17239" y="13990"/>
                </a:moveTo>
                <a:cubicBezTo>
                  <a:pt x="17415" y="13972"/>
                  <a:pt x="17583" y="13965"/>
                  <a:pt x="17760" y="13965"/>
                </a:cubicBezTo>
              </a:path>
              <a:path w="2655" h="7244">
                <a:moveTo>
                  <a:pt x="17363" y="13742"/>
                </a:moveTo>
                <a:cubicBezTo>
                  <a:pt x="17536" y="13771"/>
                  <a:pt x="17805" y="13745"/>
                  <a:pt x="17934" y="13866"/>
                </a:cubicBezTo>
                <a:cubicBezTo>
                  <a:pt x="18027" y="13953"/>
                  <a:pt x="17790" y="14125"/>
                  <a:pt x="17760" y="14163"/>
                </a:cubicBezTo>
                <a:cubicBezTo>
                  <a:pt x="17687" y="14272"/>
                  <a:pt x="17688" y="14288"/>
                  <a:pt x="17636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9760" y="4044960"/>
            <a:ext cx="911160" cy="706320"/>
          </a:xfrm>
          <a:custGeom>
            <a:avLst/>
            <a:gdLst/>
            <a:ahLst/>
            <a:rect l="l" t="t" r="r" b="b"/>
            <a:pathLst>
              <a:path w="2531" h="1960">
                <a:moveTo>
                  <a:pt x="16917" y="11534"/>
                </a:moveTo>
                <a:cubicBezTo>
                  <a:pt x="17141" y="11526"/>
                  <a:pt x="17370" y="11484"/>
                  <a:pt x="17587" y="11509"/>
                </a:cubicBezTo>
              </a:path>
              <a:path w="2531" h="1960">
                <a:moveTo>
                  <a:pt x="17264" y="11237"/>
                </a:moveTo>
                <a:cubicBezTo>
                  <a:pt x="17403" y="11306"/>
                  <a:pt x="17534" y="11383"/>
                  <a:pt x="17686" y="11410"/>
                </a:cubicBezTo>
                <a:cubicBezTo>
                  <a:pt x="17636" y="11620"/>
                  <a:pt x="17585" y="11745"/>
                  <a:pt x="17438" y="11906"/>
                </a:cubicBezTo>
              </a:path>
              <a:path w="2531" h="1960">
                <a:moveTo>
                  <a:pt x="17289" y="12427"/>
                </a:moveTo>
                <a:cubicBezTo>
                  <a:pt x="17455" y="12416"/>
                  <a:pt x="17617" y="12402"/>
                  <a:pt x="17785" y="12402"/>
                </a:cubicBezTo>
              </a:path>
              <a:path w="2531" h="1960">
                <a:moveTo>
                  <a:pt x="17587" y="12229"/>
                </a:moveTo>
                <a:cubicBezTo>
                  <a:pt x="17711" y="12273"/>
                  <a:pt x="17802" y="12303"/>
                  <a:pt x="17934" y="12303"/>
                </a:cubicBezTo>
                <a:cubicBezTo>
                  <a:pt x="17911" y="12466"/>
                  <a:pt x="17869" y="12553"/>
                  <a:pt x="17785" y="12700"/>
                </a:cubicBezTo>
              </a:path>
              <a:path w="2531" h="1960">
                <a:moveTo>
                  <a:pt x="18083" y="12526"/>
                </a:moveTo>
                <a:cubicBezTo>
                  <a:pt x="18152" y="12549"/>
                  <a:pt x="18210" y="12568"/>
                  <a:pt x="18281" y="12576"/>
                </a:cubicBezTo>
              </a:path>
              <a:path w="2531" h="1960">
                <a:moveTo>
                  <a:pt x="18083" y="13196"/>
                </a:moveTo>
                <a:cubicBezTo>
                  <a:pt x="18383" y="13148"/>
                  <a:pt x="18672" y="13146"/>
                  <a:pt x="18976" y="13146"/>
                </a:cubicBezTo>
                <a:cubicBezTo>
                  <a:pt x="19133" y="13146"/>
                  <a:pt x="19290" y="13146"/>
                  <a:pt x="19447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76920" y="2598840"/>
            <a:ext cx="2239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16049" y="7441"/>
                </a:moveTo>
                <a:cubicBezTo>
                  <a:pt x="16209" y="7461"/>
                  <a:pt x="16359" y="7466"/>
                  <a:pt x="16520" y="7466"/>
                </a:cubicBezTo>
              </a:path>
              <a:path w="621" h="646">
                <a:moveTo>
                  <a:pt x="16222" y="7218"/>
                </a:moveTo>
                <a:cubicBezTo>
                  <a:pt x="16357" y="7279"/>
                  <a:pt x="16532" y="7297"/>
                  <a:pt x="16644" y="7392"/>
                </a:cubicBezTo>
                <a:cubicBezTo>
                  <a:pt x="16754" y="7486"/>
                  <a:pt x="16360" y="7793"/>
                  <a:pt x="16297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40280" y="2990880"/>
            <a:ext cx="196920" cy="152280"/>
          </a:xfrm>
          <a:custGeom>
            <a:avLst/>
            <a:gdLst/>
            <a:ahLst/>
            <a:rect l="l" t="t" r="r" b="b"/>
            <a:pathLst>
              <a:path w="547" h="422">
                <a:moveTo>
                  <a:pt x="16222" y="8508"/>
                </a:moveTo>
                <a:cubicBezTo>
                  <a:pt x="16389" y="8508"/>
                  <a:pt x="16552" y="8490"/>
                  <a:pt x="16718" y="8483"/>
                </a:cubicBezTo>
              </a:path>
              <a:path w="547" h="422">
                <a:moveTo>
                  <a:pt x="16371" y="8310"/>
                </a:moveTo>
                <a:cubicBezTo>
                  <a:pt x="16500" y="8320"/>
                  <a:pt x="16659" y="8326"/>
                  <a:pt x="16768" y="8409"/>
                </a:cubicBezTo>
                <a:cubicBezTo>
                  <a:pt x="16828" y="8455"/>
                  <a:pt x="16619" y="8693"/>
                  <a:pt x="16594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19840" y="3473280"/>
            <a:ext cx="206280" cy="206640"/>
          </a:xfrm>
          <a:custGeom>
            <a:avLst/>
            <a:gdLst/>
            <a:ahLst/>
            <a:rect l="l" t="t" r="r" b="b"/>
            <a:pathLst>
              <a:path w="571" h="572">
                <a:moveTo>
                  <a:pt x="16446" y="9847"/>
                </a:moveTo>
                <a:cubicBezTo>
                  <a:pt x="16577" y="9864"/>
                  <a:pt x="16711" y="9884"/>
                  <a:pt x="16842" y="9897"/>
                </a:cubicBezTo>
              </a:path>
              <a:path w="571" h="572">
                <a:moveTo>
                  <a:pt x="16619" y="9649"/>
                </a:moveTo>
                <a:cubicBezTo>
                  <a:pt x="16759" y="9695"/>
                  <a:pt x="16892" y="9725"/>
                  <a:pt x="16991" y="9823"/>
                </a:cubicBezTo>
                <a:cubicBezTo>
                  <a:pt x="17081" y="9912"/>
                  <a:pt x="16776" y="10159"/>
                  <a:pt x="16718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02080" y="4394160"/>
            <a:ext cx="1733760" cy="357120"/>
          </a:xfrm>
          <a:custGeom>
            <a:avLst/>
            <a:gdLst/>
            <a:ahLst/>
            <a:rect l="l" t="t" r="r" b="b"/>
            <a:pathLst>
              <a:path w="4813" h="993">
                <a:moveTo>
                  <a:pt x="12229" y="12774"/>
                </a:moveTo>
                <a:cubicBezTo>
                  <a:pt x="12367" y="12774"/>
                  <a:pt x="12491" y="12776"/>
                  <a:pt x="12626" y="12799"/>
                </a:cubicBezTo>
              </a:path>
              <a:path w="4813" h="993">
                <a:moveTo>
                  <a:pt x="13717" y="12353"/>
                </a:moveTo>
                <a:cubicBezTo>
                  <a:pt x="13841" y="12316"/>
                  <a:pt x="13937" y="12291"/>
                  <a:pt x="14064" y="12278"/>
                </a:cubicBezTo>
                <a:cubicBezTo>
                  <a:pt x="14031" y="12508"/>
                  <a:pt x="13990" y="12609"/>
                  <a:pt x="13767" y="12675"/>
                </a:cubicBezTo>
                <a:cubicBezTo>
                  <a:pt x="13831" y="12652"/>
                  <a:pt x="14180" y="12576"/>
                  <a:pt x="14064" y="12774"/>
                </a:cubicBezTo>
                <a:cubicBezTo>
                  <a:pt x="13965" y="12943"/>
                  <a:pt x="13767" y="12927"/>
                  <a:pt x="13618" y="12874"/>
                </a:cubicBezTo>
              </a:path>
              <a:path w="4813" h="993">
                <a:moveTo>
                  <a:pt x="14511" y="12774"/>
                </a:moveTo>
                <a:lnTo>
                  <a:pt x="14511" y="12774"/>
                </a:lnTo>
              </a:path>
              <a:path w="4813" h="993">
                <a:moveTo>
                  <a:pt x="15081" y="12229"/>
                </a:moveTo>
                <a:cubicBezTo>
                  <a:pt x="14930" y="12272"/>
                  <a:pt x="14819" y="12277"/>
                  <a:pt x="14734" y="12427"/>
                </a:cubicBezTo>
                <a:cubicBezTo>
                  <a:pt x="14694" y="12527"/>
                  <a:pt x="14688" y="12545"/>
                  <a:pt x="14660" y="12601"/>
                </a:cubicBezTo>
                <a:cubicBezTo>
                  <a:pt x="14804" y="12590"/>
                  <a:pt x="14951" y="12509"/>
                  <a:pt x="15081" y="12601"/>
                </a:cubicBezTo>
                <a:cubicBezTo>
                  <a:pt x="15331" y="12779"/>
                  <a:pt x="14846" y="12801"/>
                  <a:pt x="14808" y="12799"/>
                </a:cubicBezTo>
              </a:path>
              <a:path w="4813" h="993">
                <a:moveTo>
                  <a:pt x="15379" y="12254"/>
                </a:moveTo>
                <a:cubicBezTo>
                  <a:pt x="15501" y="12221"/>
                  <a:pt x="15670" y="12166"/>
                  <a:pt x="15627" y="12378"/>
                </a:cubicBezTo>
                <a:cubicBezTo>
                  <a:pt x="15575" y="12482"/>
                  <a:pt x="15553" y="12516"/>
                  <a:pt x="15453" y="12502"/>
                </a:cubicBezTo>
                <a:cubicBezTo>
                  <a:pt x="15414" y="12502"/>
                  <a:pt x="15416" y="12491"/>
                  <a:pt x="15478" y="12452"/>
                </a:cubicBezTo>
                <a:cubicBezTo>
                  <a:pt x="15597" y="12459"/>
                  <a:pt x="15797" y="12466"/>
                  <a:pt x="15776" y="12650"/>
                </a:cubicBezTo>
                <a:cubicBezTo>
                  <a:pt x="15755" y="12833"/>
                  <a:pt x="15567" y="12760"/>
                  <a:pt x="15453" y="12750"/>
                </a:cubicBezTo>
              </a:path>
              <a:path w="4813" h="993">
                <a:moveTo>
                  <a:pt x="12998" y="13196"/>
                </a:moveTo>
                <a:cubicBezTo>
                  <a:pt x="13408" y="13196"/>
                  <a:pt x="13804" y="13148"/>
                  <a:pt x="14213" y="13122"/>
                </a:cubicBezTo>
                <a:cubicBezTo>
                  <a:pt x="14948" y="13075"/>
                  <a:pt x="15688" y="13108"/>
                  <a:pt x="16421" y="13047"/>
                </a:cubicBezTo>
                <a:cubicBezTo>
                  <a:pt x="16622" y="13030"/>
                  <a:pt x="16838" y="12996"/>
                  <a:pt x="17041" y="12973"/>
                </a:cubicBezTo>
              </a:path>
              <a:path w="4813" h="993">
                <a:moveTo>
                  <a:pt x="16321" y="12254"/>
                </a:moveTo>
                <a:cubicBezTo>
                  <a:pt x="16171" y="12210"/>
                  <a:pt x="16082" y="12323"/>
                  <a:pt x="16049" y="12477"/>
                </a:cubicBezTo>
                <a:cubicBezTo>
                  <a:pt x="16049" y="12596"/>
                  <a:pt x="16047" y="12634"/>
                  <a:pt x="16098" y="12700"/>
                </a:cubicBezTo>
                <a:cubicBezTo>
                  <a:pt x="16267" y="12708"/>
                  <a:pt x="16490" y="12736"/>
                  <a:pt x="16495" y="12502"/>
                </a:cubicBezTo>
                <a:cubicBezTo>
                  <a:pt x="16499" y="12311"/>
                  <a:pt x="16369" y="12288"/>
                  <a:pt x="16222" y="12278"/>
                </a:cubicBezTo>
              </a:path>
              <a:path w="4813" h="993">
                <a:moveTo>
                  <a:pt x="14486" y="12774"/>
                </a:moveTo>
                <a:cubicBezTo>
                  <a:pt x="14411" y="12812"/>
                  <a:pt x="14272" y="12884"/>
                  <a:pt x="14461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24240" y="2562120"/>
            <a:ext cx="1687680" cy="1849680"/>
          </a:xfrm>
          <a:custGeom>
            <a:avLst/>
            <a:gdLst/>
            <a:ahLst/>
            <a:rect l="l" t="t" r="r" b="b"/>
            <a:pathLst>
              <a:path w="4689" h="5136">
                <a:moveTo>
                  <a:pt x="13146" y="7218"/>
                </a:moveTo>
                <a:cubicBezTo>
                  <a:pt x="13104" y="7393"/>
                  <a:pt x="13009" y="7597"/>
                  <a:pt x="12998" y="7789"/>
                </a:cubicBezTo>
                <a:cubicBezTo>
                  <a:pt x="13006" y="7839"/>
                  <a:pt x="13014" y="7888"/>
                  <a:pt x="13022" y="7938"/>
                </a:cubicBezTo>
                <a:cubicBezTo>
                  <a:pt x="13250" y="8020"/>
                  <a:pt x="13478" y="8020"/>
                  <a:pt x="13543" y="7714"/>
                </a:cubicBezTo>
                <a:cubicBezTo>
                  <a:pt x="13535" y="7689"/>
                  <a:pt x="13527" y="7665"/>
                  <a:pt x="13519" y="7640"/>
                </a:cubicBezTo>
                <a:cubicBezTo>
                  <a:pt x="13293" y="7679"/>
                  <a:pt x="13240" y="7743"/>
                  <a:pt x="13196" y="7962"/>
                </a:cubicBezTo>
              </a:path>
              <a:path w="4689" h="5136">
                <a:moveTo>
                  <a:pt x="13767" y="7813"/>
                </a:moveTo>
                <a:cubicBezTo>
                  <a:pt x="13759" y="7821"/>
                  <a:pt x="13750" y="7830"/>
                  <a:pt x="13742" y="7838"/>
                </a:cubicBezTo>
              </a:path>
              <a:path w="4689" h="5136">
                <a:moveTo>
                  <a:pt x="14412" y="7218"/>
                </a:moveTo>
                <a:cubicBezTo>
                  <a:pt x="14238" y="7267"/>
                  <a:pt x="14000" y="7487"/>
                  <a:pt x="14114" y="7714"/>
                </a:cubicBezTo>
                <a:cubicBezTo>
                  <a:pt x="14164" y="7747"/>
                  <a:pt x="14213" y="7780"/>
                  <a:pt x="14263" y="7813"/>
                </a:cubicBezTo>
                <a:cubicBezTo>
                  <a:pt x="14488" y="7712"/>
                  <a:pt x="14803" y="7475"/>
                  <a:pt x="14436" y="7243"/>
                </a:cubicBezTo>
                <a:cubicBezTo>
                  <a:pt x="14387" y="7235"/>
                  <a:pt x="14337" y="7226"/>
                  <a:pt x="14288" y="7218"/>
                </a:cubicBezTo>
              </a:path>
              <a:path w="4689" h="5136">
                <a:moveTo>
                  <a:pt x="14883" y="7144"/>
                </a:moveTo>
                <a:cubicBezTo>
                  <a:pt x="14984" y="7134"/>
                  <a:pt x="15284" y="7053"/>
                  <a:pt x="15280" y="7268"/>
                </a:cubicBezTo>
                <a:cubicBezTo>
                  <a:pt x="15277" y="7407"/>
                  <a:pt x="15069" y="7830"/>
                  <a:pt x="14908" y="7863"/>
                </a:cubicBezTo>
                <a:cubicBezTo>
                  <a:pt x="14900" y="7846"/>
                  <a:pt x="14891" y="7830"/>
                  <a:pt x="14883" y="7813"/>
                </a:cubicBezTo>
                <a:cubicBezTo>
                  <a:pt x="15045" y="7665"/>
                  <a:pt x="15134" y="7717"/>
                  <a:pt x="15329" y="7789"/>
                </a:cubicBezTo>
                <a:cubicBezTo>
                  <a:pt x="15479" y="7845"/>
                  <a:pt x="15529" y="7841"/>
                  <a:pt x="15677" y="7813"/>
                </a:cubicBezTo>
              </a:path>
              <a:path w="4689" h="5136">
                <a:moveTo>
                  <a:pt x="11931" y="8508"/>
                </a:moveTo>
                <a:cubicBezTo>
                  <a:pt x="11975" y="8704"/>
                  <a:pt x="11995" y="8902"/>
                  <a:pt x="12005" y="9103"/>
                </a:cubicBezTo>
              </a:path>
              <a:path w="4689" h="5136">
                <a:moveTo>
                  <a:pt x="11733" y="8930"/>
                </a:moveTo>
                <a:cubicBezTo>
                  <a:pt x="11970" y="8889"/>
                  <a:pt x="12164" y="8863"/>
                  <a:pt x="12402" y="8880"/>
                </a:cubicBezTo>
              </a:path>
              <a:path w="4689" h="5136">
                <a:moveTo>
                  <a:pt x="13841" y="8880"/>
                </a:moveTo>
                <a:cubicBezTo>
                  <a:pt x="13879" y="8955"/>
                  <a:pt x="13902" y="8869"/>
                  <a:pt x="13866" y="8905"/>
                </a:cubicBezTo>
              </a:path>
              <a:path w="4689" h="5136">
                <a:moveTo>
                  <a:pt x="13122" y="8434"/>
                </a:moveTo>
                <a:cubicBezTo>
                  <a:pt x="13102" y="8527"/>
                  <a:pt x="13034" y="8720"/>
                  <a:pt x="13171" y="8756"/>
                </a:cubicBezTo>
                <a:cubicBezTo>
                  <a:pt x="13298" y="8756"/>
                  <a:pt x="13343" y="8755"/>
                  <a:pt x="13419" y="8706"/>
                </a:cubicBezTo>
              </a:path>
              <a:path w="4689" h="5136">
                <a:moveTo>
                  <a:pt x="13370" y="8260"/>
                </a:moveTo>
                <a:cubicBezTo>
                  <a:pt x="13345" y="8533"/>
                  <a:pt x="13345" y="8804"/>
                  <a:pt x="13345" y="9079"/>
                </a:cubicBezTo>
              </a:path>
              <a:path w="4689" h="5136">
                <a:moveTo>
                  <a:pt x="14560" y="8359"/>
                </a:moveTo>
                <a:cubicBezTo>
                  <a:pt x="14452" y="8202"/>
                  <a:pt x="14320" y="8203"/>
                  <a:pt x="14238" y="8434"/>
                </a:cubicBezTo>
                <a:cubicBezTo>
                  <a:pt x="14238" y="8475"/>
                  <a:pt x="14238" y="8517"/>
                  <a:pt x="14238" y="8558"/>
                </a:cubicBezTo>
                <a:cubicBezTo>
                  <a:pt x="14413" y="8582"/>
                  <a:pt x="14472" y="8487"/>
                  <a:pt x="14560" y="8310"/>
                </a:cubicBezTo>
                <a:cubicBezTo>
                  <a:pt x="14574" y="8478"/>
                  <a:pt x="14580" y="8666"/>
                  <a:pt x="14610" y="8830"/>
                </a:cubicBezTo>
                <a:cubicBezTo>
                  <a:pt x="14618" y="8847"/>
                  <a:pt x="14627" y="8863"/>
                  <a:pt x="14635" y="8880"/>
                </a:cubicBezTo>
              </a:path>
              <a:path w="4689" h="5136">
                <a:moveTo>
                  <a:pt x="12402" y="9302"/>
                </a:moveTo>
                <a:cubicBezTo>
                  <a:pt x="12980" y="9240"/>
                  <a:pt x="13580" y="9248"/>
                  <a:pt x="14163" y="9227"/>
                </a:cubicBezTo>
                <a:cubicBezTo>
                  <a:pt x="14677" y="9209"/>
                  <a:pt x="15187" y="9203"/>
                  <a:pt x="15701" y="9203"/>
                </a:cubicBezTo>
              </a:path>
              <a:path w="4689" h="5136">
                <a:moveTo>
                  <a:pt x="13767" y="7838"/>
                </a:moveTo>
                <a:cubicBezTo>
                  <a:pt x="13701" y="7805"/>
                  <a:pt x="13683" y="7850"/>
                  <a:pt x="13692" y="7913"/>
                </a:cubicBezTo>
                <a:cubicBezTo>
                  <a:pt x="13735" y="7882"/>
                  <a:pt x="13844" y="7781"/>
                  <a:pt x="13692" y="7813"/>
                </a:cubicBezTo>
                <a:cubicBezTo>
                  <a:pt x="13676" y="7821"/>
                  <a:pt x="13659" y="7830"/>
                  <a:pt x="13643" y="7838"/>
                </a:cubicBezTo>
              </a:path>
              <a:path w="4689" h="5136">
                <a:moveTo>
                  <a:pt x="15354" y="8285"/>
                </a:moveTo>
                <a:cubicBezTo>
                  <a:pt x="15292" y="8250"/>
                  <a:pt x="15242" y="8215"/>
                  <a:pt x="15180" y="8285"/>
                </a:cubicBezTo>
                <a:cubicBezTo>
                  <a:pt x="15143" y="8327"/>
                  <a:pt x="15126" y="8400"/>
                  <a:pt x="15106" y="8458"/>
                </a:cubicBezTo>
                <a:cubicBezTo>
                  <a:pt x="15083" y="8524"/>
                  <a:pt x="15035" y="8582"/>
                  <a:pt x="15056" y="8657"/>
                </a:cubicBezTo>
                <a:cubicBezTo>
                  <a:pt x="15084" y="8758"/>
                  <a:pt x="15167" y="8777"/>
                  <a:pt x="15255" y="8781"/>
                </a:cubicBezTo>
                <a:cubicBezTo>
                  <a:pt x="15327" y="8784"/>
                  <a:pt x="15365" y="8764"/>
                  <a:pt x="15429" y="8731"/>
                </a:cubicBezTo>
                <a:cubicBezTo>
                  <a:pt x="15482" y="8704"/>
                  <a:pt x="15496" y="8659"/>
                  <a:pt x="15528" y="8607"/>
                </a:cubicBezTo>
                <a:cubicBezTo>
                  <a:pt x="15567" y="8543"/>
                  <a:pt x="15557" y="8499"/>
                  <a:pt x="15528" y="8434"/>
                </a:cubicBezTo>
                <a:cubicBezTo>
                  <a:pt x="15498" y="8367"/>
                  <a:pt x="15447" y="8314"/>
                  <a:pt x="15379" y="8285"/>
                </a:cubicBezTo>
                <a:cubicBezTo>
                  <a:pt x="15318" y="8265"/>
                  <a:pt x="15303" y="8267"/>
                  <a:pt x="15280" y="8235"/>
                </a:cubicBezTo>
              </a:path>
              <a:path w="4689" h="5136">
                <a:moveTo>
                  <a:pt x="15379" y="9575"/>
                </a:moveTo>
                <a:cubicBezTo>
                  <a:pt x="15515" y="9458"/>
                  <a:pt x="15529" y="9451"/>
                  <a:pt x="15701" y="9451"/>
                </a:cubicBezTo>
                <a:cubicBezTo>
                  <a:pt x="15744" y="9757"/>
                  <a:pt x="15576" y="9859"/>
                  <a:pt x="15379" y="10096"/>
                </a:cubicBezTo>
                <a:cubicBezTo>
                  <a:pt x="15252" y="10248"/>
                  <a:pt x="15671" y="10082"/>
                  <a:pt x="15776" y="10071"/>
                </a:cubicBezTo>
              </a:path>
              <a:path w="4689" h="5136">
                <a:moveTo>
                  <a:pt x="14709" y="9599"/>
                </a:moveTo>
                <a:cubicBezTo>
                  <a:pt x="14866" y="9689"/>
                  <a:pt x="14730" y="9534"/>
                  <a:pt x="14660" y="9475"/>
                </a:cubicBezTo>
                <a:cubicBezTo>
                  <a:pt x="14619" y="9450"/>
                  <a:pt x="14577" y="9426"/>
                  <a:pt x="14536" y="9401"/>
                </a:cubicBezTo>
                <a:cubicBezTo>
                  <a:pt x="14484" y="9459"/>
                  <a:pt x="14189" y="10033"/>
                  <a:pt x="14511" y="9947"/>
                </a:cubicBezTo>
                <a:cubicBezTo>
                  <a:pt x="14641" y="9912"/>
                  <a:pt x="14645" y="9721"/>
                  <a:pt x="14660" y="9624"/>
                </a:cubicBezTo>
                <a:cubicBezTo>
                  <a:pt x="14675" y="9826"/>
                  <a:pt x="14724" y="10018"/>
                  <a:pt x="14734" y="10220"/>
                </a:cubicBezTo>
                <a:cubicBezTo>
                  <a:pt x="14734" y="10245"/>
                  <a:pt x="14734" y="10269"/>
                  <a:pt x="14734" y="10294"/>
                </a:cubicBezTo>
              </a:path>
              <a:path w="4689" h="5136">
                <a:moveTo>
                  <a:pt x="12750" y="9624"/>
                </a:moveTo>
                <a:cubicBezTo>
                  <a:pt x="12761" y="9919"/>
                  <a:pt x="12770" y="10198"/>
                  <a:pt x="12750" y="10492"/>
                </a:cubicBezTo>
                <a:cubicBezTo>
                  <a:pt x="12750" y="10509"/>
                  <a:pt x="12750" y="10525"/>
                  <a:pt x="12750" y="10542"/>
                </a:cubicBezTo>
              </a:path>
              <a:path w="4689" h="5136">
                <a:moveTo>
                  <a:pt x="13246" y="9699"/>
                </a:moveTo>
                <a:cubicBezTo>
                  <a:pt x="13185" y="9863"/>
                  <a:pt x="13153" y="10100"/>
                  <a:pt x="13221" y="10269"/>
                </a:cubicBezTo>
                <a:cubicBezTo>
                  <a:pt x="13254" y="10310"/>
                  <a:pt x="13287" y="10352"/>
                  <a:pt x="13320" y="10393"/>
                </a:cubicBezTo>
                <a:cubicBezTo>
                  <a:pt x="13587" y="10307"/>
                  <a:pt x="13748" y="10138"/>
                  <a:pt x="13568" y="9823"/>
                </a:cubicBezTo>
                <a:cubicBezTo>
                  <a:pt x="13450" y="9616"/>
                  <a:pt x="13343" y="9651"/>
                  <a:pt x="13171" y="9699"/>
                </a:cubicBezTo>
              </a:path>
              <a:path w="4689" h="5136">
                <a:moveTo>
                  <a:pt x="14039" y="10294"/>
                </a:moveTo>
                <a:cubicBezTo>
                  <a:pt x="14054" y="10305"/>
                  <a:pt x="14048" y="10401"/>
                  <a:pt x="14089" y="10368"/>
                </a:cubicBezTo>
                <a:cubicBezTo>
                  <a:pt x="14133" y="10303"/>
                  <a:pt x="14144" y="10289"/>
                  <a:pt x="14163" y="10244"/>
                </a:cubicBezTo>
                <a:cubicBezTo>
                  <a:pt x="14073" y="10265"/>
                  <a:pt x="14050" y="10452"/>
                  <a:pt x="14089" y="10368"/>
                </a:cubicBezTo>
                <a:cubicBezTo>
                  <a:pt x="14164" y="10206"/>
                  <a:pt x="14046" y="10355"/>
                  <a:pt x="14039" y="10368"/>
                </a:cubicBezTo>
              </a:path>
              <a:path w="4689" h="5136">
                <a:moveTo>
                  <a:pt x="14114" y="11336"/>
                </a:moveTo>
                <a:cubicBezTo>
                  <a:pt x="13955" y="11230"/>
                  <a:pt x="13665" y="11342"/>
                  <a:pt x="13519" y="11485"/>
                </a:cubicBezTo>
                <a:cubicBezTo>
                  <a:pt x="13502" y="11526"/>
                  <a:pt x="13486" y="11568"/>
                  <a:pt x="13469" y="11609"/>
                </a:cubicBezTo>
                <a:cubicBezTo>
                  <a:pt x="13599" y="11671"/>
                  <a:pt x="14218" y="11849"/>
                  <a:pt x="13965" y="12055"/>
                </a:cubicBezTo>
                <a:cubicBezTo>
                  <a:pt x="13786" y="12122"/>
                  <a:pt x="13740" y="12150"/>
                  <a:pt x="13618" y="12105"/>
                </a:cubicBezTo>
                <a:cubicBezTo>
                  <a:pt x="13688" y="11879"/>
                  <a:pt x="13814" y="11701"/>
                  <a:pt x="13915" y="11485"/>
                </a:cubicBezTo>
              </a:path>
              <a:path w="4689" h="5136">
                <a:moveTo>
                  <a:pt x="14263" y="12055"/>
                </a:moveTo>
                <a:cubicBezTo>
                  <a:pt x="14370" y="12066"/>
                  <a:pt x="14388" y="12068"/>
                  <a:pt x="14288" y="12005"/>
                </a:cubicBezTo>
              </a:path>
              <a:path w="4689" h="5136">
                <a:moveTo>
                  <a:pt x="14635" y="11460"/>
                </a:moveTo>
                <a:cubicBezTo>
                  <a:pt x="14770" y="11352"/>
                  <a:pt x="14825" y="11318"/>
                  <a:pt x="14957" y="11336"/>
                </a:cubicBezTo>
                <a:cubicBezTo>
                  <a:pt x="15180" y="11645"/>
                  <a:pt x="15136" y="11846"/>
                  <a:pt x="14734" y="12005"/>
                </a:cubicBezTo>
                <a:cubicBezTo>
                  <a:pt x="14684" y="12013"/>
                  <a:pt x="14635" y="12022"/>
                  <a:pt x="14585" y="12030"/>
                </a:cubicBezTo>
                <a:cubicBezTo>
                  <a:pt x="14690" y="11833"/>
                  <a:pt x="14856" y="11694"/>
                  <a:pt x="15081" y="11881"/>
                </a:cubicBezTo>
                <a:cubicBezTo>
                  <a:pt x="15126" y="11971"/>
                  <a:pt x="15139" y="11994"/>
                  <a:pt x="15156" y="12055"/>
                </a:cubicBezTo>
              </a:path>
              <a:path w="4689" h="5136">
                <a:moveTo>
                  <a:pt x="15652" y="11286"/>
                </a:moveTo>
                <a:cubicBezTo>
                  <a:pt x="15481" y="11333"/>
                  <a:pt x="15392" y="11376"/>
                  <a:pt x="15255" y="11485"/>
                </a:cubicBezTo>
                <a:cubicBezTo>
                  <a:pt x="15403" y="11633"/>
                  <a:pt x="15592" y="11688"/>
                  <a:pt x="15726" y="11832"/>
                </a:cubicBezTo>
                <a:cubicBezTo>
                  <a:pt x="15576" y="11963"/>
                  <a:pt x="15344" y="12007"/>
                  <a:pt x="15478" y="11708"/>
                </a:cubicBezTo>
                <a:cubicBezTo>
                  <a:pt x="15531" y="11590"/>
                  <a:pt x="15645" y="11472"/>
                  <a:pt x="15701" y="11361"/>
                </a:cubicBezTo>
              </a:path>
              <a:path w="4689" h="5136">
                <a:moveTo>
                  <a:pt x="16073" y="11261"/>
                </a:moveTo>
                <a:cubicBezTo>
                  <a:pt x="16058" y="11332"/>
                  <a:pt x="15953" y="11636"/>
                  <a:pt x="16098" y="11658"/>
                </a:cubicBezTo>
                <a:cubicBezTo>
                  <a:pt x="16242" y="11629"/>
                  <a:pt x="16303" y="11612"/>
                  <a:pt x="16396" y="11559"/>
                </a:cubicBezTo>
              </a:path>
              <a:path w="4689" h="5136">
                <a:moveTo>
                  <a:pt x="16421" y="10988"/>
                </a:moveTo>
                <a:cubicBezTo>
                  <a:pt x="16412" y="11295"/>
                  <a:pt x="16396" y="11599"/>
                  <a:pt x="16396" y="11906"/>
                </a:cubicBezTo>
                <a:cubicBezTo>
                  <a:pt x="16396" y="11931"/>
                  <a:pt x="16396" y="11956"/>
                  <a:pt x="16396" y="11981"/>
                </a:cubicBezTo>
              </a:path>
              <a:path w="4689" h="5136">
                <a:moveTo>
                  <a:pt x="14213" y="11187"/>
                </a:moveTo>
                <a:cubicBezTo>
                  <a:pt x="14050" y="11488"/>
                  <a:pt x="13922" y="11805"/>
                  <a:pt x="13742" y="12105"/>
                </a:cubicBezTo>
                <a:cubicBezTo>
                  <a:pt x="13686" y="12198"/>
                  <a:pt x="13686" y="12212"/>
                  <a:pt x="13643" y="12254"/>
                </a:cubicBezTo>
              </a:path>
              <a:path w="4689" h="5136">
                <a:moveTo>
                  <a:pt x="13320" y="10815"/>
                </a:moveTo>
                <a:lnTo>
                  <a:pt x="13320" y="10815"/>
                </a:lnTo>
              </a:path>
              <a:path w="4689" h="5136">
                <a:moveTo>
                  <a:pt x="13345" y="10889"/>
                </a:moveTo>
                <a:cubicBezTo>
                  <a:pt x="13455" y="10834"/>
                  <a:pt x="13549" y="10837"/>
                  <a:pt x="13643" y="10790"/>
                </a:cubicBezTo>
                <a:cubicBezTo>
                  <a:pt x="13662" y="10955"/>
                  <a:pt x="13517" y="11183"/>
                  <a:pt x="13469" y="11361"/>
                </a:cubicBezTo>
                <a:cubicBezTo>
                  <a:pt x="13451" y="11468"/>
                  <a:pt x="13443" y="11476"/>
                  <a:pt x="13444" y="11534"/>
                </a:cubicBezTo>
              </a:path>
              <a:path w="4689" h="5136">
                <a:moveTo>
                  <a:pt x="14436" y="11460"/>
                </a:moveTo>
                <a:cubicBezTo>
                  <a:pt x="14414" y="11437"/>
                  <a:pt x="14406" y="11432"/>
                  <a:pt x="14412" y="11410"/>
                </a:cubicBezTo>
                <a:cubicBezTo>
                  <a:pt x="14406" y="11568"/>
                  <a:pt x="14387" y="11723"/>
                  <a:pt x="14387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67200" y="4768920"/>
            <a:ext cx="1197000" cy="490320"/>
          </a:xfrm>
          <a:custGeom>
            <a:avLst/>
            <a:gdLst/>
            <a:ahLst/>
            <a:rect l="l" t="t" r="r" b="b"/>
            <a:pathLst>
              <a:path w="3324" h="1365">
                <a:moveTo>
                  <a:pt x="16371" y="13395"/>
                </a:moveTo>
                <a:cubicBezTo>
                  <a:pt x="16379" y="13395"/>
                  <a:pt x="16388" y="13395"/>
                  <a:pt x="16396" y="13395"/>
                </a:cubicBezTo>
              </a:path>
              <a:path w="3324" h="1365">
                <a:moveTo>
                  <a:pt x="16718" y="13246"/>
                </a:moveTo>
                <a:cubicBezTo>
                  <a:pt x="16726" y="13470"/>
                  <a:pt x="16760" y="13691"/>
                  <a:pt x="16768" y="13915"/>
                </a:cubicBezTo>
                <a:cubicBezTo>
                  <a:pt x="16768" y="13932"/>
                  <a:pt x="16768" y="13948"/>
                  <a:pt x="16768" y="13965"/>
                </a:cubicBezTo>
              </a:path>
              <a:path w="3324" h="1365">
                <a:moveTo>
                  <a:pt x="16446" y="13395"/>
                </a:moveTo>
                <a:cubicBezTo>
                  <a:pt x="16420" y="13487"/>
                  <a:pt x="16396" y="13571"/>
                  <a:pt x="16396" y="13667"/>
                </a:cubicBezTo>
                <a:cubicBezTo>
                  <a:pt x="16551" y="13650"/>
                  <a:pt x="16690" y="13590"/>
                  <a:pt x="16842" y="13568"/>
                </a:cubicBezTo>
              </a:path>
              <a:path w="3324" h="1365">
                <a:moveTo>
                  <a:pt x="16024" y="13469"/>
                </a:moveTo>
                <a:cubicBezTo>
                  <a:pt x="15937" y="13493"/>
                  <a:pt x="15645" y="13506"/>
                  <a:pt x="15652" y="13593"/>
                </a:cubicBezTo>
                <a:cubicBezTo>
                  <a:pt x="15661" y="13701"/>
                  <a:pt x="15677" y="13783"/>
                  <a:pt x="15677" y="13891"/>
                </a:cubicBezTo>
                <a:cubicBezTo>
                  <a:pt x="15784" y="13841"/>
                  <a:pt x="16110" y="13668"/>
                  <a:pt x="16197" y="13866"/>
                </a:cubicBezTo>
                <a:cubicBezTo>
                  <a:pt x="16299" y="14099"/>
                  <a:pt x="15917" y="14168"/>
                  <a:pt x="15801" y="14213"/>
                </a:cubicBezTo>
              </a:path>
              <a:path w="3324" h="1365">
                <a:moveTo>
                  <a:pt x="14610" y="13519"/>
                </a:moveTo>
                <a:cubicBezTo>
                  <a:pt x="14787" y="13474"/>
                  <a:pt x="14949" y="13469"/>
                  <a:pt x="15131" y="13469"/>
                </a:cubicBezTo>
                <a:cubicBezTo>
                  <a:pt x="15147" y="13469"/>
                  <a:pt x="15164" y="13469"/>
                  <a:pt x="15180" y="13469"/>
                </a:cubicBezTo>
                <a:cubicBezTo>
                  <a:pt x="15222" y="13594"/>
                  <a:pt x="15106" y="13875"/>
                  <a:pt x="15081" y="14015"/>
                </a:cubicBezTo>
                <a:cubicBezTo>
                  <a:pt x="15060" y="14132"/>
                  <a:pt x="15032" y="14182"/>
                  <a:pt x="15081" y="14263"/>
                </a:cubicBezTo>
              </a:path>
              <a:path w="3324" h="1365">
                <a:moveTo>
                  <a:pt x="14635" y="14238"/>
                </a:moveTo>
                <a:cubicBezTo>
                  <a:pt x="14532" y="14176"/>
                  <a:pt x="14518" y="14291"/>
                  <a:pt x="14536" y="14387"/>
                </a:cubicBezTo>
                <a:cubicBezTo>
                  <a:pt x="14544" y="14395"/>
                  <a:pt x="14552" y="14404"/>
                  <a:pt x="14560" y="14412"/>
                </a:cubicBezTo>
                <a:cubicBezTo>
                  <a:pt x="14671" y="14342"/>
                  <a:pt x="14636" y="14211"/>
                  <a:pt x="14635" y="14213"/>
                </a:cubicBezTo>
                <a:cubicBezTo>
                  <a:pt x="14618" y="14246"/>
                  <a:pt x="14602" y="14279"/>
                  <a:pt x="14585" y="14312"/>
                </a:cubicBezTo>
              </a:path>
              <a:path w="3324" h="1365">
                <a:moveTo>
                  <a:pt x="13568" y="13667"/>
                </a:moveTo>
                <a:cubicBezTo>
                  <a:pt x="13708" y="13716"/>
                  <a:pt x="13530" y="14110"/>
                  <a:pt x="13519" y="14288"/>
                </a:cubicBezTo>
                <a:cubicBezTo>
                  <a:pt x="13527" y="14304"/>
                  <a:pt x="13535" y="14321"/>
                  <a:pt x="13543" y="14337"/>
                </a:cubicBezTo>
                <a:cubicBezTo>
                  <a:pt x="13658" y="14217"/>
                  <a:pt x="13839" y="13962"/>
                  <a:pt x="13965" y="14089"/>
                </a:cubicBezTo>
              </a:path>
              <a:path w="3324" h="1365">
                <a:moveTo>
                  <a:pt x="13767" y="13469"/>
                </a:moveTo>
                <a:cubicBezTo>
                  <a:pt x="13815" y="13853"/>
                  <a:pt x="13841" y="14223"/>
                  <a:pt x="13841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760" y="634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16" y="17636"/>
                </a:moveTo>
                <a:lnTo>
                  <a:pt x="1116" y="176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97920" y="3197160"/>
            <a:ext cx="34920" cy="3492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22845" y="8880"/>
                </a:moveTo>
                <a:cubicBezTo>
                  <a:pt x="22843" y="8888"/>
                  <a:pt x="22793" y="8965"/>
                  <a:pt x="22820" y="8979"/>
                </a:cubicBezTo>
                <a:cubicBezTo>
                  <a:pt x="22862" y="8979"/>
                  <a:pt x="22878" y="8987"/>
                  <a:pt x="22870" y="8954"/>
                </a:cubicBezTo>
              </a:path>
              <a:path w="100" h="100">
                <a:moveTo>
                  <a:pt x="22796" y="8954"/>
                </a:moveTo>
                <a:cubicBezTo>
                  <a:pt x="22796" y="8921"/>
                  <a:pt x="22796" y="8905"/>
                  <a:pt x="22796" y="8880"/>
                </a:cubicBezTo>
                <a:cubicBezTo>
                  <a:pt x="22768" y="8993"/>
                  <a:pt x="22870" y="9019"/>
                  <a:pt x="22845" y="8905"/>
                </a:cubicBezTo>
                <a:cubicBezTo>
                  <a:pt x="22817" y="8877"/>
                  <a:pt x="22808" y="8873"/>
                  <a:pt x="22820" y="8930"/>
                </a:cubicBezTo>
              </a:path>
              <a:path w="100" h="100">
                <a:moveTo>
                  <a:pt x="22870" y="8954"/>
                </a:moveTo>
                <a:cubicBezTo>
                  <a:pt x="22807" y="8867"/>
                  <a:pt x="22827" y="8865"/>
                  <a:pt x="22771" y="8954"/>
                </a:cubicBezTo>
                <a:cubicBezTo>
                  <a:pt x="22834" y="8955"/>
                  <a:pt x="22849" y="8859"/>
                  <a:pt x="22820" y="8880"/>
                </a:cubicBezTo>
                <a:cubicBezTo>
                  <a:pt x="22804" y="8897"/>
                  <a:pt x="22787" y="8913"/>
                  <a:pt x="2277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23200" y="2884320"/>
            <a:ext cx="401760" cy="295560"/>
          </a:xfrm>
          <a:custGeom>
            <a:avLst/>
            <a:gdLst/>
            <a:ahLst/>
            <a:rect l="l" t="t" r="r" b="b"/>
            <a:pathLst>
              <a:path w="1117" h="819">
                <a:moveTo>
                  <a:pt x="23416" y="8235"/>
                </a:moveTo>
                <a:cubicBezTo>
                  <a:pt x="23266" y="8190"/>
                  <a:pt x="23152" y="8230"/>
                  <a:pt x="23118" y="8409"/>
                </a:cubicBezTo>
                <a:cubicBezTo>
                  <a:pt x="23090" y="8556"/>
                  <a:pt x="23143" y="8872"/>
                  <a:pt x="23366" y="8830"/>
                </a:cubicBezTo>
                <a:cubicBezTo>
                  <a:pt x="23579" y="8790"/>
                  <a:pt x="23701" y="8568"/>
                  <a:pt x="23614" y="8384"/>
                </a:cubicBezTo>
                <a:cubicBezTo>
                  <a:pt x="23545" y="8238"/>
                  <a:pt x="23399" y="8239"/>
                  <a:pt x="23267" y="8260"/>
                </a:cubicBezTo>
              </a:path>
              <a:path w="1117" h="819">
                <a:moveTo>
                  <a:pt x="23937" y="8012"/>
                </a:moveTo>
                <a:cubicBezTo>
                  <a:pt x="23805" y="8077"/>
                  <a:pt x="23786" y="8302"/>
                  <a:pt x="23788" y="8458"/>
                </a:cubicBezTo>
                <a:cubicBezTo>
                  <a:pt x="23810" y="8592"/>
                  <a:pt x="23807" y="8631"/>
                  <a:pt x="23887" y="8682"/>
                </a:cubicBezTo>
                <a:cubicBezTo>
                  <a:pt x="24053" y="8664"/>
                  <a:pt x="24224" y="8624"/>
                  <a:pt x="24234" y="8409"/>
                </a:cubicBezTo>
                <a:cubicBezTo>
                  <a:pt x="24242" y="8243"/>
                  <a:pt x="24135" y="8161"/>
                  <a:pt x="24011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8840" y="2517840"/>
            <a:ext cx="36360" cy="27000"/>
          </a:xfrm>
          <a:custGeom>
            <a:avLst/>
            <a:gdLst/>
            <a:ahLst/>
            <a:rect l="l" t="t" r="r" b="b"/>
            <a:pathLst>
              <a:path w="100" h="75">
                <a:moveTo>
                  <a:pt x="22721" y="7045"/>
                </a:moveTo>
                <a:cubicBezTo>
                  <a:pt x="22769" y="7020"/>
                  <a:pt x="22714" y="7141"/>
                  <a:pt x="22796" y="6995"/>
                </a:cubicBezTo>
                <a:cubicBezTo>
                  <a:pt x="22707" y="7025"/>
                  <a:pt x="22757" y="7073"/>
                  <a:pt x="22820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67800" y="2268360"/>
            <a:ext cx="231480" cy="241560"/>
          </a:xfrm>
          <a:custGeom>
            <a:avLst/>
            <a:gdLst/>
            <a:ahLst/>
            <a:rect l="l" t="t" r="r" b="b"/>
            <a:pathLst>
              <a:path w="646" h="671">
                <a:moveTo>
                  <a:pt x="22498" y="6300"/>
                </a:moveTo>
                <a:cubicBezTo>
                  <a:pt x="22453" y="6303"/>
                  <a:pt x="22094" y="6300"/>
                  <a:pt x="22076" y="6325"/>
                </a:cubicBezTo>
                <a:cubicBezTo>
                  <a:pt x="22011" y="6414"/>
                  <a:pt x="22010" y="6567"/>
                  <a:pt x="22002" y="6672"/>
                </a:cubicBezTo>
                <a:cubicBezTo>
                  <a:pt x="22144" y="6644"/>
                  <a:pt x="22245" y="6541"/>
                  <a:pt x="22399" y="6598"/>
                </a:cubicBezTo>
                <a:cubicBezTo>
                  <a:pt x="22534" y="6648"/>
                  <a:pt x="22463" y="6891"/>
                  <a:pt x="22374" y="6945"/>
                </a:cubicBezTo>
                <a:cubicBezTo>
                  <a:pt x="22241" y="7025"/>
                  <a:pt x="21995" y="6970"/>
                  <a:pt x="21853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2847960"/>
            <a:ext cx="241200" cy="393840"/>
          </a:xfrm>
          <a:custGeom>
            <a:avLst/>
            <a:gdLst/>
            <a:ahLst/>
            <a:rect l="l" t="t" r="r" b="b"/>
            <a:pathLst>
              <a:path w="670" h="1092">
                <a:moveTo>
                  <a:pt x="22523" y="7938"/>
                </a:moveTo>
                <a:cubicBezTo>
                  <a:pt x="22521" y="7865"/>
                  <a:pt x="22298" y="7971"/>
                  <a:pt x="22200" y="7987"/>
                </a:cubicBezTo>
                <a:cubicBezTo>
                  <a:pt x="22184" y="7987"/>
                  <a:pt x="22167" y="7987"/>
                  <a:pt x="22151" y="7987"/>
                </a:cubicBezTo>
              </a:path>
              <a:path w="670" h="1092">
                <a:moveTo>
                  <a:pt x="22547" y="7987"/>
                </a:moveTo>
                <a:cubicBezTo>
                  <a:pt x="22490" y="7982"/>
                  <a:pt x="22370" y="7999"/>
                  <a:pt x="22275" y="8062"/>
                </a:cubicBezTo>
                <a:cubicBezTo>
                  <a:pt x="22120" y="8165"/>
                  <a:pt x="22130" y="8057"/>
                  <a:pt x="22126" y="8310"/>
                </a:cubicBezTo>
                <a:cubicBezTo>
                  <a:pt x="22126" y="8450"/>
                  <a:pt x="22126" y="8475"/>
                  <a:pt x="22126" y="8558"/>
                </a:cubicBezTo>
                <a:cubicBezTo>
                  <a:pt x="22138" y="8458"/>
                  <a:pt x="22209" y="8384"/>
                  <a:pt x="22324" y="8384"/>
                </a:cubicBezTo>
                <a:cubicBezTo>
                  <a:pt x="22457" y="8384"/>
                  <a:pt x="22586" y="8521"/>
                  <a:pt x="22572" y="8657"/>
                </a:cubicBezTo>
                <a:cubicBezTo>
                  <a:pt x="22546" y="8899"/>
                  <a:pt x="22338" y="8974"/>
                  <a:pt x="22126" y="9004"/>
                </a:cubicBezTo>
                <a:cubicBezTo>
                  <a:pt x="22001" y="9004"/>
                  <a:pt x="21973" y="9012"/>
                  <a:pt x="21903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3880" y="220500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21630" y="6375"/>
                </a:moveTo>
                <a:cubicBezTo>
                  <a:pt x="21587" y="6246"/>
                  <a:pt x="21492" y="6198"/>
                  <a:pt x="21357" y="6300"/>
                </a:cubicBezTo>
                <a:cubicBezTo>
                  <a:pt x="21340" y="6325"/>
                  <a:pt x="21324" y="6350"/>
                  <a:pt x="21307" y="6375"/>
                </a:cubicBezTo>
                <a:cubicBezTo>
                  <a:pt x="21249" y="6462"/>
                  <a:pt x="21497" y="6396"/>
                  <a:pt x="21555" y="6424"/>
                </a:cubicBezTo>
                <a:cubicBezTo>
                  <a:pt x="21711" y="6500"/>
                  <a:pt x="21603" y="6713"/>
                  <a:pt x="21456" y="6697"/>
                </a:cubicBezTo>
                <a:cubicBezTo>
                  <a:pt x="21332" y="6656"/>
                  <a:pt x="21307" y="6648"/>
                  <a:pt x="21233" y="6623"/>
                </a:cubicBezTo>
              </a:path>
              <a:path w="398" h="646">
                <a:moveTo>
                  <a:pt x="21357" y="6127"/>
                </a:moveTo>
                <a:cubicBezTo>
                  <a:pt x="21432" y="6350"/>
                  <a:pt x="21470" y="6537"/>
                  <a:pt x="21481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1160" y="2732040"/>
            <a:ext cx="125640" cy="216000"/>
          </a:xfrm>
          <a:custGeom>
            <a:avLst/>
            <a:gdLst/>
            <a:ahLst/>
            <a:rect l="l" t="t" r="r" b="b"/>
            <a:pathLst>
              <a:path w="349" h="597">
                <a:moveTo>
                  <a:pt x="21530" y="7689"/>
                </a:moveTo>
                <a:cubicBezTo>
                  <a:pt x="21392" y="7701"/>
                  <a:pt x="21348" y="7719"/>
                  <a:pt x="21282" y="7838"/>
                </a:cubicBezTo>
                <a:cubicBezTo>
                  <a:pt x="21430" y="7828"/>
                  <a:pt x="21527" y="7784"/>
                  <a:pt x="21630" y="7888"/>
                </a:cubicBezTo>
                <a:cubicBezTo>
                  <a:pt x="21563" y="8009"/>
                  <a:pt x="21457" y="8068"/>
                  <a:pt x="21307" y="7987"/>
                </a:cubicBezTo>
                <a:cubicBezTo>
                  <a:pt x="21299" y="7971"/>
                  <a:pt x="21290" y="7954"/>
                  <a:pt x="21282" y="7938"/>
                </a:cubicBezTo>
              </a:path>
              <a:path w="349" h="597">
                <a:moveTo>
                  <a:pt x="21406" y="7590"/>
                </a:moveTo>
                <a:cubicBezTo>
                  <a:pt x="21432" y="7788"/>
                  <a:pt x="21471" y="7988"/>
                  <a:pt x="21506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76640" y="5375160"/>
            <a:ext cx="930240" cy="312840"/>
          </a:xfrm>
          <a:custGeom>
            <a:avLst/>
            <a:gdLst/>
            <a:ahLst/>
            <a:rect l="l" t="t" r="r" b="b"/>
            <a:pathLst>
              <a:path w="2581" h="870">
                <a:moveTo>
                  <a:pt x="8483" y="15652"/>
                </a:moveTo>
                <a:lnTo>
                  <a:pt x="8483" y="15652"/>
                </a:lnTo>
              </a:path>
              <a:path w="2581" h="870">
                <a:moveTo>
                  <a:pt x="6871" y="14957"/>
                </a:moveTo>
                <a:cubicBezTo>
                  <a:pt x="6790" y="14982"/>
                  <a:pt x="6352" y="15079"/>
                  <a:pt x="6350" y="15156"/>
                </a:cubicBezTo>
                <a:cubicBezTo>
                  <a:pt x="6347" y="15237"/>
                  <a:pt x="6390" y="15348"/>
                  <a:pt x="6400" y="15429"/>
                </a:cubicBezTo>
                <a:cubicBezTo>
                  <a:pt x="6662" y="15359"/>
                  <a:pt x="6734" y="15317"/>
                  <a:pt x="6921" y="15503"/>
                </a:cubicBezTo>
                <a:cubicBezTo>
                  <a:pt x="6718" y="15727"/>
                  <a:pt x="6628" y="15788"/>
                  <a:pt x="6325" y="15776"/>
                </a:cubicBezTo>
              </a:path>
              <a:path w="2581" h="870">
                <a:moveTo>
                  <a:pt x="7218" y="15602"/>
                </a:moveTo>
                <a:cubicBezTo>
                  <a:pt x="7192" y="15662"/>
                  <a:pt x="7192" y="15691"/>
                  <a:pt x="7218" y="15751"/>
                </a:cubicBezTo>
                <a:cubicBezTo>
                  <a:pt x="7272" y="15721"/>
                  <a:pt x="7443" y="15513"/>
                  <a:pt x="7293" y="15577"/>
                </a:cubicBezTo>
                <a:cubicBezTo>
                  <a:pt x="7268" y="15594"/>
                  <a:pt x="7243" y="15610"/>
                  <a:pt x="7218" y="15627"/>
                </a:cubicBezTo>
              </a:path>
              <a:path w="2581" h="870">
                <a:moveTo>
                  <a:pt x="7789" y="14932"/>
                </a:moveTo>
                <a:cubicBezTo>
                  <a:pt x="7609" y="15186"/>
                  <a:pt x="7618" y="15305"/>
                  <a:pt x="7739" y="15577"/>
                </a:cubicBezTo>
                <a:cubicBezTo>
                  <a:pt x="7884" y="15531"/>
                  <a:pt x="8441" y="15240"/>
                  <a:pt x="8062" y="15032"/>
                </a:cubicBezTo>
                <a:cubicBezTo>
                  <a:pt x="7870" y="15032"/>
                  <a:pt x="7809" y="15028"/>
                  <a:pt x="7714" y="15131"/>
                </a:cubicBezTo>
              </a:path>
              <a:path w="2581" h="870">
                <a:moveTo>
                  <a:pt x="8657" y="15032"/>
                </a:moveTo>
                <a:cubicBezTo>
                  <a:pt x="8440" y="15140"/>
                  <a:pt x="8455" y="15408"/>
                  <a:pt x="8434" y="15652"/>
                </a:cubicBezTo>
                <a:cubicBezTo>
                  <a:pt x="8643" y="15702"/>
                  <a:pt x="9105" y="15511"/>
                  <a:pt x="8905" y="15156"/>
                </a:cubicBezTo>
                <a:cubicBezTo>
                  <a:pt x="8708" y="15024"/>
                  <a:pt x="8664" y="14970"/>
                  <a:pt x="8508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28880" y="5375160"/>
            <a:ext cx="1884240" cy="920880"/>
          </a:xfrm>
          <a:custGeom>
            <a:avLst/>
            <a:gdLst/>
            <a:ahLst/>
            <a:rect l="l" t="t" r="r" b="b"/>
            <a:pathLst>
              <a:path w="5235" h="2556">
                <a:moveTo>
                  <a:pt x="5358" y="16718"/>
                </a:moveTo>
                <a:cubicBezTo>
                  <a:pt x="5461" y="16711"/>
                  <a:pt x="5555" y="16686"/>
                  <a:pt x="5655" y="16669"/>
                </a:cubicBezTo>
              </a:path>
              <a:path w="5235" h="2556">
                <a:moveTo>
                  <a:pt x="5631" y="16495"/>
                </a:moveTo>
                <a:cubicBezTo>
                  <a:pt x="5611" y="16679"/>
                  <a:pt x="5606" y="16855"/>
                  <a:pt x="5606" y="17041"/>
                </a:cubicBezTo>
              </a:path>
              <a:path w="5235" h="2556">
                <a:moveTo>
                  <a:pt x="6697" y="16073"/>
                </a:moveTo>
                <a:cubicBezTo>
                  <a:pt x="6766" y="16005"/>
                  <a:pt x="6810" y="15993"/>
                  <a:pt x="6896" y="16049"/>
                </a:cubicBezTo>
                <a:cubicBezTo>
                  <a:pt x="6960" y="16347"/>
                  <a:pt x="6882" y="16569"/>
                  <a:pt x="6648" y="16793"/>
                </a:cubicBezTo>
                <a:cubicBezTo>
                  <a:pt x="6607" y="16818"/>
                  <a:pt x="6565" y="16842"/>
                  <a:pt x="6524" y="16867"/>
                </a:cubicBezTo>
                <a:cubicBezTo>
                  <a:pt x="6503" y="16712"/>
                  <a:pt x="6510" y="16529"/>
                  <a:pt x="6722" y="16520"/>
                </a:cubicBezTo>
                <a:cubicBezTo>
                  <a:pt x="6891" y="16513"/>
                  <a:pt x="7012" y="16619"/>
                  <a:pt x="7045" y="16768"/>
                </a:cubicBezTo>
              </a:path>
              <a:path w="5235" h="2556">
                <a:moveTo>
                  <a:pt x="7218" y="16619"/>
                </a:moveTo>
                <a:cubicBezTo>
                  <a:pt x="7218" y="16636"/>
                  <a:pt x="7218" y="16652"/>
                  <a:pt x="7218" y="16669"/>
                </a:cubicBezTo>
              </a:path>
              <a:path w="5235" h="2556">
                <a:moveTo>
                  <a:pt x="7888" y="15925"/>
                </a:moveTo>
                <a:cubicBezTo>
                  <a:pt x="7770" y="16011"/>
                  <a:pt x="7697" y="16056"/>
                  <a:pt x="7615" y="16173"/>
                </a:cubicBezTo>
                <a:cubicBezTo>
                  <a:pt x="7693" y="16223"/>
                  <a:pt x="7981" y="16352"/>
                  <a:pt x="7888" y="16495"/>
                </a:cubicBezTo>
                <a:cubicBezTo>
                  <a:pt x="7800" y="16540"/>
                  <a:pt x="7779" y="16556"/>
                  <a:pt x="7714" y="16545"/>
                </a:cubicBezTo>
                <a:cubicBezTo>
                  <a:pt x="7738" y="16303"/>
                  <a:pt x="7790" y="16172"/>
                  <a:pt x="7962" y="15999"/>
                </a:cubicBezTo>
              </a:path>
              <a:path w="5235" h="2556">
                <a:moveTo>
                  <a:pt x="9004" y="15875"/>
                </a:moveTo>
                <a:cubicBezTo>
                  <a:pt x="8910" y="15960"/>
                  <a:pt x="8785" y="15966"/>
                  <a:pt x="8706" y="16024"/>
                </a:cubicBezTo>
                <a:cubicBezTo>
                  <a:pt x="8639" y="16073"/>
                  <a:pt x="8657" y="16229"/>
                  <a:pt x="8657" y="16297"/>
                </a:cubicBezTo>
                <a:cubicBezTo>
                  <a:pt x="8797" y="16227"/>
                  <a:pt x="8870" y="16151"/>
                  <a:pt x="9029" y="16123"/>
                </a:cubicBezTo>
                <a:cubicBezTo>
                  <a:pt x="9092" y="16350"/>
                  <a:pt x="9027" y="16540"/>
                  <a:pt x="8731" y="16545"/>
                </a:cubicBezTo>
                <a:cubicBezTo>
                  <a:pt x="8560" y="16487"/>
                  <a:pt x="8505" y="16448"/>
                  <a:pt x="8533" y="16272"/>
                </a:cubicBezTo>
              </a:path>
              <a:path w="5235" h="2556">
                <a:moveTo>
                  <a:pt x="9847" y="15949"/>
                </a:moveTo>
                <a:cubicBezTo>
                  <a:pt x="9717" y="15832"/>
                  <a:pt x="9528" y="15914"/>
                  <a:pt x="9500" y="16123"/>
                </a:cubicBezTo>
                <a:cubicBezTo>
                  <a:pt x="9517" y="16140"/>
                  <a:pt x="9533" y="16156"/>
                  <a:pt x="9550" y="16173"/>
                </a:cubicBezTo>
                <a:cubicBezTo>
                  <a:pt x="9693" y="16101"/>
                  <a:pt x="9756" y="16037"/>
                  <a:pt x="9847" y="15900"/>
                </a:cubicBezTo>
                <a:cubicBezTo>
                  <a:pt x="9881" y="16134"/>
                  <a:pt x="9897" y="16358"/>
                  <a:pt x="9897" y="16594"/>
                </a:cubicBezTo>
              </a:path>
              <a:path w="5235" h="2556">
                <a:moveTo>
                  <a:pt x="7169" y="17487"/>
                </a:moveTo>
                <a:cubicBezTo>
                  <a:pt x="7514" y="17384"/>
                  <a:pt x="7879" y="17297"/>
                  <a:pt x="8235" y="17214"/>
                </a:cubicBezTo>
                <a:cubicBezTo>
                  <a:pt x="8933" y="17052"/>
                  <a:pt x="9653" y="16895"/>
                  <a:pt x="10368" y="16842"/>
                </a:cubicBezTo>
                <a:cubicBezTo>
                  <a:pt x="10501" y="16842"/>
                  <a:pt x="10517" y="16842"/>
                  <a:pt x="10592" y="16842"/>
                </a:cubicBezTo>
              </a:path>
              <a:path w="5235" h="2556">
                <a:moveTo>
                  <a:pt x="9599" y="14932"/>
                </a:moveTo>
                <a:cubicBezTo>
                  <a:pt x="9388" y="15116"/>
                  <a:pt x="9385" y="15301"/>
                  <a:pt x="9426" y="15577"/>
                </a:cubicBezTo>
                <a:cubicBezTo>
                  <a:pt x="9517" y="15528"/>
                  <a:pt x="10101" y="15008"/>
                  <a:pt x="9649" y="15032"/>
                </a:cubicBezTo>
                <a:cubicBezTo>
                  <a:pt x="9583" y="15065"/>
                  <a:pt x="9517" y="15098"/>
                  <a:pt x="9451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10000" y="6205680"/>
            <a:ext cx="133200" cy="260280"/>
          </a:xfrm>
          <a:custGeom>
            <a:avLst/>
            <a:gdLst/>
            <a:ahLst/>
            <a:rect l="l" t="t" r="r" b="b"/>
            <a:pathLst>
              <a:path w="373" h="721">
                <a:moveTo>
                  <a:pt x="10071" y="17413"/>
                </a:moveTo>
                <a:cubicBezTo>
                  <a:pt x="10087" y="17421"/>
                  <a:pt x="10104" y="17430"/>
                  <a:pt x="10120" y="17438"/>
                </a:cubicBezTo>
                <a:cubicBezTo>
                  <a:pt x="10120" y="17347"/>
                  <a:pt x="10126" y="17239"/>
                  <a:pt x="9996" y="17239"/>
                </a:cubicBezTo>
                <a:cubicBezTo>
                  <a:pt x="9801" y="17239"/>
                  <a:pt x="9777" y="17508"/>
                  <a:pt x="9798" y="17611"/>
                </a:cubicBezTo>
                <a:cubicBezTo>
                  <a:pt x="9980" y="17572"/>
                  <a:pt x="10023" y="17509"/>
                  <a:pt x="10096" y="17338"/>
                </a:cubicBezTo>
                <a:cubicBezTo>
                  <a:pt x="10096" y="17531"/>
                  <a:pt x="10127" y="17747"/>
                  <a:pt x="10071" y="17934"/>
                </a:cubicBezTo>
                <a:cubicBezTo>
                  <a:pt x="10063" y="17942"/>
                  <a:pt x="10054" y="17951"/>
                  <a:pt x="10046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0160" y="6249960"/>
            <a:ext cx="160560" cy="171360"/>
          </a:xfrm>
          <a:custGeom>
            <a:avLst/>
            <a:gdLst/>
            <a:ahLst/>
            <a:rect l="l" t="t" r="r" b="b"/>
            <a:pathLst>
              <a:path w="447" h="473">
                <a:moveTo>
                  <a:pt x="9203" y="17363"/>
                </a:moveTo>
                <a:cubicBezTo>
                  <a:pt x="9031" y="17373"/>
                  <a:pt x="8899" y="17341"/>
                  <a:pt x="8830" y="17487"/>
                </a:cubicBezTo>
                <a:cubicBezTo>
                  <a:pt x="8822" y="17512"/>
                  <a:pt x="8814" y="17537"/>
                  <a:pt x="8806" y="17562"/>
                </a:cubicBezTo>
                <a:cubicBezTo>
                  <a:pt x="8983" y="17536"/>
                  <a:pt x="9078" y="17488"/>
                  <a:pt x="9252" y="17537"/>
                </a:cubicBezTo>
                <a:cubicBezTo>
                  <a:pt x="9191" y="17795"/>
                  <a:pt x="9082" y="17807"/>
                  <a:pt x="8830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89120" y="6313320"/>
            <a:ext cx="339840" cy="303480"/>
          </a:xfrm>
          <a:custGeom>
            <a:avLst/>
            <a:gdLst/>
            <a:ahLst/>
            <a:rect l="l" t="t" r="r" b="b"/>
            <a:pathLst>
              <a:path w="944" h="844">
                <a:moveTo>
                  <a:pt x="8062" y="17636"/>
                </a:moveTo>
                <a:cubicBezTo>
                  <a:pt x="7925" y="17661"/>
                  <a:pt x="7896" y="17697"/>
                  <a:pt x="7789" y="17785"/>
                </a:cubicBezTo>
                <a:cubicBezTo>
                  <a:pt x="7788" y="17923"/>
                  <a:pt x="8071" y="17835"/>
                  <a:pt x="8111" y="18008"/>
                </a:cubicBezTo>
                <a:cubicBezTo>
                  <a:pt x="8062" y="18132"/>
                  <a:pt x="8046" y="18173"/>
                  <a:pt x="7938" y="18182"/>
                </a:cubicBezTo>
                <a:cubicBezTo>
                  <a:pt x="7700" y="18063"/>
                  <a:pt x="7795" y="17804"/>
                  <a:pt x="7838" y="17537"/>
                </a:cubicBezTo>
              </a:path>
              <a:path w="944" h="844">
                <a:moveTo>
                  <a:pt x="7317" y="18182"/>
                </a:moveTo>
                <a:cubicBezTo>
                  <a:pt x="7261" y="18278"/>
                  <a:pt x="7318" y="18286"/>
                  <a:pt x="7367" y="18207"/>
                </a:cubicBezTo>
                <a:cubicBezTo>
                  <a:pt x="7375" y="18199"/>
                  <a:pt x="7384" y="18190"/>
                  <a:pt x="7392" y="18182"/>
                </a:cubicBezTo>
              </a:path>
              <a:path w="944" h="844">
                <a:moveTo>
                  <a:pt x="7813" y="17686"/>
                </a:moveTo>
                <a:lnTo>
                  <a:pt x="7813" y="17686"/>
                </a:lnTo>
              </a:path>
              <a:path w="944" h="844">
                <a:moveTo>
                  <a:pt x="7888" y="17611"/>
                </a:moveTo>
                <a:cubicBezTo>
                  <a:pt x="7937" y="17542"/>
                  <a:pt x="7977" y="17509"/>
                  <a:pt x="8062" y="17562"/>
                </a:cubicBezTo>
                <a:cubicBezTo>
                  <a:pt x="8090" y="17591"/>
                  <a:pt x="8103" y="17599"/>
                  <a:pt x="8136" y="17587"/>
                </a:cubicBezTo>
                <a:cubicBezTo>
                  <a:pt x="8122" y="17686"/>
                  <a:pt x="8096" y="17661"/>
                  <a:pt x="8012" y="17711"/>
                </a:cubicBezTo>
                <a:cubicBezTo>
                  <a:pt x="7977" y="17732"/>
                  <a:pt x="7907" y="17769"/>
                  <a:pt x="7888" y="17810"/>
                </a:cubicBezTo>
                <a:cubicBezTo>
                  <a:pt x="7854" y="17881"/>
                  <a:pt x="7852" y="17962"/>
                  <a:pt x="7813" y="18033"/>
                </a:cubicBezTo>
                <a:cubicBezTo>
                  <a:pt x="7776" y="18101"/>
                  <a:pt x="7799" y="18136"/>
                  <a:pt x="7813" y="18207"/>
                </a:cubicBezTo>
              </a:path>
              <a:path w="944" h="844">
                <a:moveTo>
                  <a:pt x="7193" y="18355"/>
                </a:moveTo>
                <a:cubicBezTo>
                  <a:pt x="7260" y="18323"/>
                  <a:pt x="7238" y="18407"/>
                  <a:pt x="7317" y="18380"/>
                </a:cubicBezTo>
                <a:cubicBezTo>
                  <a:pt x="7356" y="18367"/>
                  <a:pt x="7411" y="18182"/>
                  <a:pt x="7268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78000" y="6438960"/>
            <a:ext cx="216000" cy="258840"/>
          </a:xfrm>
          <a:custGeom>
            <a:avLst/>
            <a:gdLst/>
            <a:ahLst/>
            <a:rect l="l" t="t" r="r" b="b"/>
            <a:pathLst>
              <a:path w="597" h="721">
                <a:moveTo>
                  <a:pt x="6052" y="17884"/>
                </a:moveTo>
                <a:cubicBezTo>
                  <a:pt x="6171" y="17908"/>
                  <a:pt x="6317" y="17884"/>
                  <a:pt x="6449" y="17884"/>
                </a:cubicBezTo>
                <a:cubicBezTo>
                  <a:pt x="6557" y="17884"/>
                  <a:pt x="6582" y="17884"/>
                  <a:pt x="6648" y="17884"/>
                </a:cubicBezTo>
                <a:cubicBezTo>
                  <a:pt x="6625" y="18046"/>
                  <a:pt x="6584" y="18227"/>
                  <a:pt x="6524" y="18380"/>
                </a:cubicBezTo>
                <a:cubicBezTo>
                  <a:pt x="6462" y="18503"/>
                  <a:pt x="6446" y="18525"/>
                  <a:pt x="6424" y="18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6380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57" y="19025"/>
                </a:moveTo>
                <a:lnTo>
                  <a:pt x="5457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urately add and subtract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Evaluate the following decimal operations if a = 2.5, b = 8.4 and c = 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3.76 + b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a – 1.3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a + 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2.38 -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51120" y="1820880"/>
            <a:ext cx="1463760" cy="1724040"/>
          </a:xfrm>
          <a:custGeom>
            <a:avLst/>
            <a:gdLst/>
            <a:ahLst/>
            <a:rect l="l" t="t" r="r" b="b"/>
            <a:pathLst>
              <a:path w="4069" h="4788">
                <a:moveTo>
                  <a:pt x="8756" y="6052"/>
                </a:moveTo>
                <a:cubicBezTo>
                  <a:pt x="8820" y="5946"/>
                  <a:pt x="8935" y="5942"/>
                  <a:pt x="9054" y="5928"/>
                </a:cubicBezTo>
                <a:cubicBezTo>
                  <a:pt x="9084" y="6155"/>
                  <a:pt x="9049" y="6242"/>
                  <a:pt x="8855" y="6400"/>
                </a:cubicBezTo>
                <a:cubicBezTo>
                  <a:pt x="8978" y="6312"/>
                  <a:pt x="9148" y="6269"/>
                  <a:pt x="9153" y="6499"/>
                </a:cubicBezTo>
                <a:cubicBezTo>
                  <a:pt x="9158" y="6739"/>
                  <a:pt x="8844" y="6821"/>
                  <a:pt x="8682" y="6821"/>
                </a:cubicBezTo>
              </a:path>
              <a:path w="4069" h="4788">
                <a:moveTo>
                  <a:pt x="9451" y="6598"/>
                </a:moveTo>
                <a:cubicBezTo>
                  <a:pt x="9459" y="6631"/>
                  <a:pt x="9467" y="6664"/>
                  <a:pt x="9475" y="6697"/>
                </a:cubicBezTo>
              </a:path>
              <a:path w="4069" h="4788">
                <a:moveTo>
                  <a:pt x="9599" y="5854"/>
                </a:moveTo>
                <a:cubicBezTo>
                  <a:pt x="9788" y="5854"/>
                  <a:pt x="10040" y="5762"/>
                  <a:pt x="10071" y="6003"/>
                </a:cubicBezTo>
                <a:cubicBezTo>
                  <a:pt x="10100" y="6228"/>
                  <a:pt x="10009" y="6414"/>
                  <a:pt x="9971" y="6623"/>
                </a:cubicBezTo>
              </a:path>
              <a:path w="4069" h="4788">
                <a:moveTo>
                  <a:pt x="10492" y="5755"/>
                </a:moveTo>
                <a:cubicBezTo>
                  <a:pt x="10447" y="5905"/>
                  <a:pt x="10365" y="6055"/>
                  <a:pt x="10344" y="6226"/>
                </a:cubicBezTo>
                <a:cubicBezTo>
                  <a:pt x="10329" y="6351"/>
                  <a:pt x="10335" y="6593"/>
                  <a:pt x="10517" y="6598"/>
                </a:cubicBezTo>
                <a:cubicBezTo>
                  <a:pt x="10680" y="6602"/>
                  <a:pt x="10766" y="6501"/>
                  <a:pt x="10840" y="6375"/>
                </a:cubicBezTo>
                <a:cubicBezTo>
                  <a:pt x="10876" y="6314"/>
                  <a:pt x="10881" y="6218"/>
                  <a:pt x="10790" y="6201"/>
                </a:cubicBezTo>
                <a:cubicBezTo>
                  <a:pt x="10647" y="6174"/>
                  <a:pt x="10591" y="6300"/>
                  <a:pt x="10567" y="6424"/>
                </a:cubicBezTo>
                <a:cubicBezTo>
                  <a:pt x="10567" y="6490"/>
                  <a:pt x="10567" y="6507"/>
                  <a:pt x="10567" y="6548"/>
                </a:cubicBezTo>
              </a:path>
              <a:path w="4069" h="4788">
                <a:moveTo>
                  <a:pt x="9103" y="7367"/>
                </a:moveTo>
                <a:cubicBezTo>
                  <a:pt x="9169" y="7286"/>
                  <a:pt x="9193" y="7235"/>
                  <a:pt x="9054" y="7218"/>
                </a:cubicBezTo>
                <a:cubicBezTo>
                  <a:pt x="8863" y="7195"/>
                  <a:pt x="8794" y="7261"/>
                  <a:pt x="8657" y="7367"/>
                </a:cubicBezTo>
                <a:cubicBezTo>
                  <a:pt x="8735" y="7574"/>
                  <a:pt x="8973" y="7565"/>
                  <a:pt x="9079" y="7764"/>
                </a:cubicBezTo>
                <a:cubicBezTo>
                  <a:pt x="9169" y="7933"/>
                  <a:pt x="8907" y="7943"/>
                  <a:pt x="8830" y="7938"/>
                </a:cubicBezTo>
                <a:cubicBezTo>
                  <a:pt x="8862" y="7704"/>
                  <a:pt x="9078" y="7506"/>
                  <a:pt x="9103" y="7293"/>
                </a:cubicBezTo>
                <a:cubicBezTo>
                  <a:pt x="9087" y="7276"/>
                  <a:pt x="9070" y="7260"/>
                  <a:pt x="9054" y="7243"/>
                </a:cubicBezTo>
              </a:path>
              <a:path w="4069" h="4788">
                <a:moveTo>
                  <a:pt x="9500" y="7739"/>
                </a:moveTo>
                <a:cubicBezTo>
                  <a:pt x="9500" y="7780"/>
                  <a:pt x="9500" y="7788"/>
                  <a:pt x="9500" y="7813"/>
                </a:cubicBezTo>
                <a:cubicBezTo>
                  <a:pt x="9595" y="7719"/>
                  <a:pt x="9610" y="7737"/>
                  <a:pt x="9500" y="7665"/>
                </a:cubicBezTo>
              </a:path>
              <a:path w="4069" h="4788">
                <a:moveTo>
                  <a:pt x="9897" y="7169"/>
                </a:moveTo>
                <a:cubicBezTo>
                  <a:pt x="9854" y="7243"/>
                  <a:pt x="9817" y="7322"/>
                  <a:pt x="9773" y="7392"/>
                </a:cubicBezTo>
                <a:cubicBezTo>
                  <a:pt x="9899" y="7387"/>
                  <a:pt x="10020" y="7375"/>
                  <a:pt x="10145" y="7367"/>
                </a:cubicBezTo>
              </a:path>
              <a:path w="4069" h="4788">
                <a:moveTo>
                  <a:pt x="10120" y="7045"/>
                </a:moveTo>
                <a:cubicBezTo>
                  <a:pt x="10111" y="7261"/>
                  <a:pt x="10096" y="7472"/>
                  <a:pt x="10096" y="7689"/>
                </a:cubicBezTo>
                <a:cubicBezTo>
                  <a:pt x="10096" y="7706"/>
                  <a:pt x="10096" y="7722"/>
                  <a:pt x="10096" y="7739"/>
                </a:cubicBezTo>
              </a:path>
              <a:path w="4069" h="4788">
                <a:moveTo>
                  <a:pt x="8310" y="8384"/>
                </a:moveTo>
                <a:cubicBezTo>
                  <a:pt x="8599" y="8271"/>
                  <a:pt x="8945" y="8229"/>
                  <a:pt x="9252" y="8186"/>
                </a:cubicBezTo>
                <a:cubicBezTo>
                  <a:pt x="9862" y="8100"/>
                  <a:pt x="10474" y="8111"/>
                  <a:pt x="11088" y="8111"/>
                </a:cubicBezTo>
                <a:cubicBezTo>
                  <a:pt x="11253" y="8111"/>
                  <a:pt x="11270" y="8111"/>
                  <a:pt x="11361" y="8111"/>
                </a:cubicBezTo>
              </a:path>
              <a:path w="4069" h="4788">
                <a:moveTo>
                  <a:pt x="8062" y="7268"/>
                </a:moveTo>
                <a:cubicBezTo>
                  <a:pt x="8014" y="7443"/>
                  <a:pt x="8037" y="7670"/>
                  <a:pt x="8037" y="7863"/>
                </a:cubicBezTo>
                <a:cubicBezTo>
                  <a:pt x="8037" y="7871"/>
                  <a:pt x="8037" y="7880"/>
                  <a:pt x="8037" y="7888"/>
                </a:cubicBezTo>
              </a:path>
              <a:path w="4069" h="4788">
                <a:moveTo>
                  <a:pt x="7764" y="7541"/>
                </a:moveTo>
                <a:cubicBezTo>
                  <a:pt x="7931" y="7529"/>
                  <a:pt x="8094" y="7484"/>
                  <a:pt x="8260" y="7466"/>
                </a:cubicBezTo>
                <a:cubicBezTo>
                  <a:pt x="8318" y="7466"/>
                  <a:pt x="8326" y="7466"/>
                  <a:pt x="8359" y="7466"/>
                </a:cubicBezTo>
              </a:path>
              <a:path w="4069" h="4788">
                <a:moveTo>
                  <a:pt x="10616" y="7193"/>
                </a:moveTo>
                <a:cubicBezTo>
                  <a:pt x="10444" y="7237"/>
                  <a:pt x="10412" y="7359"/>
                  <a:pt x="10393" y="7541"/>
                </a:cubicBezTo>
                <a:cubicBezTo>
                  <a:pt x="10378" y="7683"/>
                  <a:pt x="10481" y="7821"/>
                  <a:pt x="10641" y="7739"/>
                </a:cubicBezTo>
                <a:cubicBezTo>
                  <a:pt x="10766" y="7675"/>
                  <a:pt x="10817" y="7432"/>
                  <a:pt x="10740" y="7317"/>
                </a:cubicBezTo>
                <a:cubicBezTo>
                  <a:pt x="10705" y="7264"/>
                  <a:pt x="10598" y="7243"/>
                  <a:pt x="10542" y="7218"/>
                </a:cubicBezTo>
              </a:path>
              <a:path w="4069" h="4788">
                <a:moveTo>
                  <a:pt x="10691" y="8409"/>
                </a:moveTo>
                <a:cubicBezTo>
                  <a:pt x="10699" y="8392"/>
                  <a:pt x="10708" y="8376"/>
                  <a:pt x="10716" y="8359"/>
                </a:cubicBezTo>
              </a:path>
              <a:path w="4069" h="4788">
                <a:moveTo>
                  <a:pt x="10691" y="8359"/>
                </a:moveTo>
                <a:cubicBezTo>
                  <a:pt x="10657" y="8601"/>
                  <a:pt x="10596" y="8858"/>
                  <a:pt x="10616" y="9103"/>
                </a:cubicBezTo>
                <a:cubicBezTo>
                  <a:pt x="10624" y="9136"/>
                  <a:pt x="10633" y="9170"/>
                  <a:pt x="10641" y="9203"/>
                </a:cubicBezTo>
                <a:cubicBezTo>
                  <a:pt x="10841" y="9214"/>
                  <a:pt x="10967" y="9151"/>
                  <a:pt x="11063" y="8954"/>
                </a:cubicBezTo>
                <a:cubicBezTo>
                  <a:pt x="11071" y="8921"/>
                  <a:pt x="11080" y="8888"/>
                  <a:pt x="11088" y="8855"/>
                </a:cubicBezTo>
                <a:cubicBezTo>
                  <a:pt x="10946" y="8855"/>
                  <a:pt x="10857" y="8903"/>
                  <a:pt x="10815" y="9054"/>
                </a:cubicBezTo>
                <a:cubicBezTo>
                  <a:pt x="10815" y="9087"/>
                  <a:pt x="10815" y="9120"/>
                  <a:pt x="10815" y="9153"/>
                </a:cubicBezTo>
              </a:path>
              <a:path w="4069" h="4788">
                <a:moveTo>
                  <a:pt x="10170" y="8533"/>
                </a:moveTo>
                <a:cubicBezTo>
                  <a:pt x="10121" y="8792"/>
                  <a:pt x="10120" y="9036"/>
                  <a:pt x="10120" y="9302"/>
                </a:cubicBezTo>
              </a:path>
              <a:path w="4069" h="4788">
                <a:moveTo>
                  <a:pt x="8682" y="5060"/>
                </a:moveTo>
                <a:cubicBezTo>
                  <a:pt x="8763" y="5284"/>
                  <a:pt x="8798" y="5494"/>
                  <a:pt x="8830" y="5730"/>
                </a:cubicBezTo>
              </a:path>
              <a:path w="4069" h="4788">
                <a:moveTo>
                  <a:pt x="9599" y="9178"/>
                </a:moveTo>
                <a:cubicBezTo>
                  <a:pt x="9555" y="9358"/>
                  <a:pt x="9596" y="9285"/>
                  <a:pt x="9649" y="9178"/>
                </a:cubicBezTo>
              </a:path>
              <a:path w="4069" h="4788">
                <a:moveTo>
                  <a:pt x="8310" y="8806"/>
                </a:moveTo>
                <a:cubicBezTo>
                  <a:pt x="8358" y="9048"/>
                  <a:pt x="8374" y="9232"/>
                  <a:pt x="8359" y="9475"/>
                </a:cubicBezTo>
              </a:path>
              <a:path w="4069" h="4788">
                <a:moveTo>
                  <a:pt x="8657" y="8756"/>
                </a:moveTo>
                <a:cubicBezTo>
                  <a:pt x="8748" y="8656"/>
                  <a:pt x="8749" y="8647"/>
                  <a:pt x="8880" y="8657"/>
                </a:cubicBezTo>
                <a:cubicBezTo>
                  <a:pt x="8905" y="8883"/>
                  <a:pt x="8831" y="9022"/>
                  <a:pt x="8731" y="9227"/>
                </a:cubicBezTo>
                <a:cubicBezTo>
                  <a:pt x="8723" y="9244"/>
                  <a:pt x="8714" y="9260"/>
                  <a:pt x="8706" y="9277"/>
                </a:cubicBezTo>
                <a:cubicBezTo>
                  <a:pt x="8795" y="9266"/>
                  <a:pt x="8884" y="9235"/>
                  <a:pt x="8979" y="9252"/>
                </a:cubicBezTo>
                <a:cubicBezTo>
                  <a:pt x="9052" y="9265"/>
                  <a:pt x="9062" y="9292"/>
                  <a:pt x="9128" y="9302"/>
                </a:cubicBezTo>
              </a:path>
              <a:path w="4069" h="4788">
                <a:moveTo>
                  <a:pt x="8285" y="9773"/>
                </a:moveTo>
                <a:cubicBezTo>
                  <a:pt x="8640" y="9784"/>
                  <a:pt x="8996" y="9805"/>
                  <a:pt x="9351" y="9823"/>
                </a:cubicBezTo>
                <a:cubicBezTo>
                  <a:pt x="9739" y="9843"/>
                  <a:pt x="10128" y="9872"/>
                  <a:pt x="10517" y="9823"/>
                </a:cubicBezTo>
                <a:cubicBezTo>
                  <a:pt x="10778" y="9790"/>
                  <a:pt x="11089" y="9712"/>
                  <a:pt x="11286" y="9525"/>
                </a:cubicBezTo>
                <a:cubicBezTo>
                  <a:pt x="11431" y="9387"/>
                  <a:pt x="11565" y="9180"/>
                  <a:pt x="11658" y="9004"/>
                </a:cubicBezTo>
                <a:cubicBezTo>
                  <a:pt x="11737" y="8854"/>
                  <a:pt x="11720" y="8704"/>
                  <a:pt x="11633" y="8558"/>
                </a:cubicBezTo>
                <a:cubicBezTo>
                  <a:pt x="11583" y="8473"/>
                  <a:pt x="11457" y="8349"/>
                  <a:pt x="11361" y="8310"/>
                </a:cubicBezTo>
                <a:cubicBezTo>
                  <a:pt x="11228" y="8256"/>
                  <a:pt x="11105" y="8260"/>
                  <a:pt x="10964" y="8260"/>
                </a:cubicBezTo>
                <a:cubicBezTo>
                  <a:pt x="10401" y="8260"/>
                  <a:pt x="9838" y="8258"/>
                  <a:pt x="9277" y="8285"/>
                </a:cubicBezTo>
                <a:cubicBezTo>
                  <a:pt x="9050" y="8296"/>
                  <a:pt x="8832" y="8322"/>
                  <a:pt x="8607" y="8359"/>
                </a:cubicBezTo>
                <a:cubicBezTo>
                  <a:pt x="8414" y="8391"/>
                  <a:pt x="8264" y="8431"/>
                  <a:pt x="8086" y="8508"/>
                </a:cubicBezTo>
                <a:cubicBezTo>
                  <a:pt x="7896" y="8590"/>
                  <a:pt x="7821" y="8709"/>
                  <a:pt x="7714" y="8880"/>
                </a:cubicBezTo>
                <a:cubicBezTo>
                  <a:pt x="7635" y="9006"/>
                  <a:pt x="7629" y="9100"/>
                  <a:pt x="7640" y="9252"/>
                </a:cubicBezTo>
                <a:cubicBezTo>
                  <a:pt x="7652" y="9409"/>
                  <a:pt x="7740" y="9595"/>
                  <a:pt x="7863" y="9699"/>
                </a:cubicBezTo>
                <a:cubicBezTo>
                  <a:pt x="8029" y="9838"/>
                  <a:pt x="8230" y="9844"/>
                  <a:pt x="8434" y="9847"/>
                </a:cubicBezTo>
                <a:cubicBezTo>
                  <a:pt x="8569" y="9849"/>
                  <a:pt x="8697" y="9834"/>
                  <a:pt x="8830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24080" y="4295880"/>
            <a:ext cx="1160640" cy="1098360"/>
          </a:xfrm>
          <a:custGeom>
            <a:avLst/>
            <a:gdLst/>
            <a:ahLst/>
            <a:rect l="l" t="t" r="r" b="b"/>
            <a:pathLst>
              <a:path w="3226" h="3052">
                <a:moveTo>
                  <a:pt x="6970" y="12328"/>
                </a:moveTo>
                <a:cubicBezTo>
                  <a:pt x="7020" y="12213"/>
                  <a:pt x="7085" y="12001"/>
                  <a:pt x="7218" y="11956"/>
                </a:cubicBezTo>
                <a:cubicBezTo>
                  <a:pt x="7251" y="11956"/>
                  <a:pt x="7284" y="11956"/>
                  <a:pt x="7317" y="11956"/>
                </a:cubicBezTo>
                <a:cubicBezTo>
                  <a:pt x="7540" y="12257"/>
                  <a:pt x="7541" y="12440"/>
                  <a:pt x="7169" y="12650"/>
                </a:cubicBezTo>
                <a:cubicBezTo>
                  <a:pt x="6977" y="12714"/>
                  <a:pt x="6934" y="12752"/>
                  <a:pt x="6821" y="12675"/>
                </a:cubicBezTo>
                <a:cubicBezTo>
                  <a:pt x="6927" y="12478"/>
                  <a:pt x="7075" y="12425"/>
                  <a:pt x="7293" y="12551"/>
                </a:cubicBezTo>
                <a:cubicBezTo>
                  <a:pt x="7360" y="12619"/>
                  <a:pt x="7384" y="12633"/>
                  <a:pt x="7367" y="12700"/>
                </a:cubicBezTo>
              </a:path>
              <a:path w="3226" h="3052">
                <a:moveTo>
                  <a:pt x="7665" y="12601"/>
                </a:moveTo>
                <a:cubicBezTo>
                  <a:pt x="7673" y="12617"/>
                  <a:pt x="7681" y="12634"/>
                  <a:pt x="7689" y="12650"/>
                </a:cubicBezTo>
              </a:path>
              <a:path w="3226" h="3052">
                <a:moveTo>
                  <a:pt x="8260" y="11931"/>
                </a:moveTo>
                <a:cubicBezTo>
                  <a:pt x="8081" y="11946"/>
                  <a:pt x="7999" y="11920"/>
                  <a:pt x="7962" y="12080"/>
                </a:cubicBezTo>
                <a:cubicBezTo>
                  <a:pt x="7941" y="12188"/>
                  <a:pt x="7938" y="12214"/>
                  <a:pt x="7913" y="12278"/>
                </a:cubicBezTo>
                <a:cubicBezTo>
                  <a:pt x="8096" y="12214"/>
                  <a:pt x="8334" y="12095"/>
                  <a:pt x="8458" y="12328"/>
                </a:cubicBezTo>
                <a:cubicBezTo>
                  <a:pt x="8629" y="12649"/>
                  <a:pt x="8073" y="12570"/>
                  <a:pt x="7962" y="12551"/>
                </a:cubicBezTo>
              </a:path>
              <a:path w="3226" h="3052">
                <a:moveTo>
                  <a:pt x="6449" y="13022"/>
                </a:moveTo>
                <a:cubicBezTo>
                  <a:pt x="6443" y="13207"/>
                  <a:pt x="6416" y="13385"/>
                  <a:pt x="6400" y="13568"/>
                </a:cubicBezTo>
              </a:path>
              <a:path w="3226" h="3052">
                <a:moveTo>
                  <a:pt x="6176" y="13320"/>
                </a:moveTo>
                <a:cubicBezTo>
                  <a:pt x="6317" y="13320"/>
                  <a:pt x="6445" y="13326"/>
                  <a:pt x="6573" y="13271"/>
                </a:cubicBezTo>
              </a:path>
              <a:path w="3226" h="3052">
                <a:moveTo>
                  <a:pt x="6573" y="13767"/>
                </a:moveTo>
                <a:cubicBezTo>
                  <a:pt x="7022" y="13869"/>
                  <a:pt x="7523" y="13841"/>
                  <a:pt x="7987" y="13891"/>
                </a:cubicBezTo>
                <a:cubicBezTo>
                  <a:pt x="8459" y="13942"/>
                  <a:pt x="8950" y="13988"/>
                  <a:pt x="9401" y="14139"/>
                </a:cubicBezTo>
              </a:path>
              <a:path w="3226" h="3052">
                <a:moveTo>
                  <a:pt x="7739" y="13469"/>
                </a:moveTo>
                <a:cubicBezTo>
                  <a:pt x="7718" y="13553"/>
                  <a:pt x="7703" y="13572"/>
                  <a:pt x="7739" y="13618"/>
                </a:cubicBezTo>
                <a:cubicBezTo>
                  <a:pt x="7790" y="13504"/>
                  <a:pt x="7804" y="13536"/>
                  <a:pt x="7714" y="13469"/>
                </a:cubicBezTo>
              </a:path>
              <a:path w="3226" h="3052">
                <a:moveTo>
                  <a:pt x="7243" y="12948"/>
                </a:moveTo>
                <a:cubicBezTo>
                  <a:pt x="7149" y="13153"/>
                  <a:pt x="6971" y="13378"/>
                  <a:pt x="7020" y="13618"/>
                </a:cubicBezTo>
                <a:cubicBezTo>
                  <a:pt x="7036" y="13626"/>
                  <a:pt x="7053" y="13635"/>
                  <a:pt x="7069" y="13643"/>
                </a:cubicBezTo>
                <a:cubicBezTo>
                  <a:pt x="7097" y="13630"/>
                  <a:pt x="7619" y="13270"/>
                  <a:pt x="7317" y="13246"/>
                </a:cubicBezTo>
                <a:cubicBezTo>
                  <a:pt x="7141" y="13232"/>
                  <a:pt x="7123" y="13513"/>
                  <a:pt x="7094" y="13618"/>
                </a:cubicBezTo>
              </a:path>
              <a:path w="3226" h="3052">
                <a:moveTo>
                  <a:pt x="8285" y="13097"/>
                </a:moveTo>
                <a:cubicBezTo>
                  <a:pt x="8097" y="13210"/>
                  <a:pt x="8102" y="13357"/>
                  <a:pt x="8111" y="13568"/>
                </a:cubicBezTo>
                <a:cubicBezTo>
                  <a:pt x="8303" y="13599"/>
                  <a:pt x="8787" y="13495"/>
                  <a:pt x="8508" y="13171"/>
                </a:cubicBezTo>
                <a:cubicBezTo>
                  <a:pt x="8450" y="13155"/>
                  <a:pt x="8392" y="13138"/>
                  <a:pt x="8334" y="13122"/>
                </a:cubicBezTo>
              </a:path>
              <a:path w="3226" h="3052">
                <a:moveTo>
                  <a:pt x="8582" y="14188"/>
                </a:moveTo>
                <a:lnTo>
                  <a:pt x="8582" y="14188"/>
                </a:lnTo>
              </a:path>
              <a:path w="3226" h="3052">
                <a:moveTo>
                  <a:pt x="8756" y="14139"/>
                </a:moveTo>
                <a:cubicBezTo>
                  <a:pt x="8586" y="14171"/>
                  <a:pt x="8418" y="14144"/>
                  <a:pt x="8260" y="14163"/>
                </a:cubicBezTo>
                <a:cubicBezTo>
                  <a:pt x="8234" y="14166"/>
                  <a:pt x="8171" y="14469"/>
                  <a:pt x="8161" y="14511"/>
                </a:cubicBezTo>
                <a:cubicBezTo>
                  <a:pt x="8285" y="14542"/>
                  <a:pt x="8413" y="14450"/>
                  <a:pt x="8558" y="14486"/>
                </a:cubicBezTo>
                <a:cubicBezTo>
                  <a:pt x="8817" y="14550"/>
                  <a:pt x="8812" y="14827"/>
                  <a:pt x="8558" y="14883"/>
                </a:cubicBezTo>
                <a:cubicBezTo>
                  <a:pt x="8358" y="14883"/>
                  <a:pt x="8274" y="14878"/>
                  <a:pt x="8136" y="14833"/>
                </a:cubicBezTo>
              </a:path>
              <a:path w="3226" h="3052">
                <a:moveTo>
                  <a:pt x="7739" y="14734"/>
                </a:moveTo>
                <a:cubicBezTo>
                  <a:pt x="7785" y="14860"/>
                  <a:pt x="7797" y="14891"/>
                  <a:pt x="7863" y="14759"/>
                </a:cubicBezTo>
                <a:cubicBezTo>
                  <a:pt x="7774" y="14729"/>
                  <a:pt x="7737" y="14730"/>
                  <a:pt x="7689" y="14808"/>
                </a:cubicBezTo>
              </a:path>
              <a:path w="3226" h="3052">
                <a:moveTo>
                  <a:pt x="7342" y="14163"/>
                </a:moveTo>
                <a:cubicBezTo>
                  <a:pt x="7235" y="14132"/>
                  <a:pt x="7030" y="14105"/>
                  <a:pt x="6921" y="14139"/>
                </a:cubicBezTo>
                <a:cubicBezTo>
                  <a:pt x="6676" y="14215"/>
                  <a:pt x="6683" y="14392"/>
                  <a:pt x="6846" y="14536"/>
                </a:cubicBezTo>
                <a:cubicBezTo>
                  <a:pt x="7055" y="14721"/>
                  <a:pt x="7107" y="14682"/>
                  <a:pt x="7119" y="14932"/>
                </a:cubicBezTo>
                <a:cubicBezTo>
                  <a:pt x="6942" y="14988"/>
                  <a:pt x="6883" y="14992"/>
                  <a:pt x="6921" y="14784"/>
                </a:cubicBezTo>
                <a:cubicBezTo>
                  <a:pt x="6954" y="14604"/>
                  <a:pt x="7059" y="14455"/>
                  <a:pt x="7169" y="14312"/>
                </a:cubicBezTo>
                <a:cubicBezTo>
                  <a:pt x="7230" y="14232"/>
                  <a:pt x="7213" y="14268"/>
                  <a:pt x="714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9200" y="3857760"/>
            <a:ext cx="1455840" cy="1366560"/>
          </a:xfrm>
          <a:custGeom>
            <a:avLst/>
            <a:gdLst/>
            <a:ahLst/>
            <a:rect l="l" t="t" r="r" b="b"/>
            <a:pathLst>
              <a:path w="4044" h="3796">
                <a:moveTo>
                  <a:pt x="20538" y="11485"/>
                </a:moveTo>
                <a:cubicBezTo>
                  <a:pt x="20619" y="11671"/>
                  <a:pt x="20591" y="11975"/>
                  <a:pt x="20563" y="12179"/>
                </a:cubicBezTo>
                <a:cubicBezTo>
                  <a:pt x="20546" y="12245"/>
                  <a:pt x="20530" y="12312"/>
                  <a:pt x="20513" y="12378"/>
                </a:cubicBezTo>
              </a:path>
              <a:path w="4044" h="3796">
                <a:moveTo>
                  <a:pt x="20960" y="11633"/>
                </a:moveTo>
                <a:cubicBezTo>
                  <a:pt x="21247" y="11674"/>
                  <a:pt x="21522" y="11811"/>
                  <a:pt x="21258" y="12154"/>
                </a:cubicBezTo>
                <a:cubicBezTo>
                  <a:pt x="21101" y="12358"/>
                  <a:pt x="20985" y="12346"/>
                  <a:pt x="20811" y="12278"/>
                </a:cubicBezTo>
                <a:cubicBezTo>
                  <a:pt x="20880" y="12061"/>
                  <a:pt x="20929" y="11987"/>
                  <a:pt x="21158" y="12129"/>
                </a:cubicBezTo>
                <a:cubicBezTo>
                  <a:pt x="21287" y="12209"/>
                  <a:pt x="21299" y="12276"/>
                  <a:pt x="21357" y="12402"/>
                </a:cubicBezTo>
              </a:path>
              <a:path w="4044" h="3796">
                <a:moveTo>
                  <a:pt x="21729" y="12204"/>
                </a:moveTo>
                <a:cubicBezTo>
                  <a:pt x="21753" y="12252"/>
                  <a:pt x="21759" y="12269"/>
                  <a:pt x="21803" y="12254"/>
                </a:cubicBezTo>
                <a:cubicBezTo>
                  <a:pt x="21763" y="12130"/>
                  <a:pt x="21635" y="12267"/>
                  <a:pt x="21679" y="12303"/>
                </a:cubicBezTo>
                <a:cubicBezTo>
                  <a:pt x="21752" y="12303"/>
                  <a:pt x="21776" y="12304"/>
                  <a:pt x="21803" y="12254"/>
                </a:cubicBezTo>
              </a:path>
              <a:path w="4044" h="3796">
                <a:moveTo>
                  <a:pt x="22027" y="11633"/>
                </a:moveTo>
                <a:cubicBezTo>
                  <a:pt x="22113" y="11583"/>
                  <a:pt x="22525" y="11379"/>
                  <a:pt x="22448" y="11683"/>
                </a:cubicBezTo>
                <a:cubicBezTo>
                  <a:pt x="22349" y="11832"/>
                  <a:pt x="22316" y="11882"/>
                  <a:pt x="22200" y="11931"/>
                </a:cubicBezTo>
                <a:cubicBezTo>
                  <a:pt x="22184" y="11939"/>
                  <a:pt x="22167" y="11948"/>
                  <a:pt x="22151" y="11956"/>
                </a:cubicBezTo>
                <a:cubicBezTo>
                  <a:pt x="22284" y="11873"/>
                  <a:pt x="22653" y="11761"/>
                  <a:pt x="22572" y="12080"/>
                </a:cubicBezTo>
                <a:cubicBezTo>
                  <a:pt x="22508" y="12330"/>
                  <a:pt x="22280" y="12259"/>
                  <a:pt x="22101" y="12254"/>
                </a:cubicBezTo>
              </a:path>
              <a:path w="4044" h="3796">
                <a:moveTo>
                  <a:pt x="22994" y="11410"/>
                </a:moveTo>
                <a:cubicBezTo>
                  <a:pt x="22823" y="11538"/>
                  <a:pt x="22775" y="11559"/>
                  <a:pt x="22721" y="11683"/>
                </a:cubicBezTo>
                <a:cubicBezTo>
                  <a:pt x="22874" y="11880"/>
                  <a:pt x="23116" y="11931"/>
                  <a:pt x="23316" y="12105"/>
                </a:cubicBezTo>
                <a:cubicBezTo>
                  <a:pt x="23128" y="12294"/>
                  <a:pt x="22757" y="12350"/>
                  <a:pt x="22920" y="11931"/>
                </a:cubicBezTo>
                <a:cubicBezTo>
                  <a:pt x="23019" y="11676"/>
                  <a:pt x="23172" y="11656"/>
                  <a:pt x="23143" y="11435"/>
                </a:cubicBezTo>
              </a:path>
              <a:path w="4044" h="3796">
                <a:moveTo>
                  <a:pt x="19720" y="13047"/>
                </a:moveTo>
                <a:cubicBezTo>
                  <a:pt x="19885" y="13068"/>
                  <a:pt x="20046" y="13032"/>
                  <a:pt x="20216" y="13022"/>
                </a:cubicBezTo>
              </a:path>
              <a:path w="4044" h="3796">
                <a:moveTo>
                  <a:pt x="21406" y="12650"/>
                </a:moveTo>
                <a:cubicBezTo>
                  <a:pt x="21291" y="12686"/>
                  <a:pt x="21175" y="12713"/>
                  <a:pt x="21059" y="12750"/>
                </a:cubicBezTo>
                <a:cubicBezTo>
                  <a:pt x="21059" y="12962"/>
                  <a:pt x="21345" y="12876"/>
                  <a:pt x="21456" y="13047"/>
                </a:cubicBezTo>
                <a:cubicBezTo>
                  <a:pt x="21584" y="13244"/>
                  <a:pt x="21261" y="13257"/>
                  <a:pt x="21183" y="13271"/>
                </a:cubicBezTo>
                <a:cubicBezTo>
                  <a:pt x="21125" y="13033"/>
                  <a:pt x="21263" y="12937"/>
                  <a:pt x="21382" y="12725"/>
                </a:cubicBezTo>
                <a:cubicBezTo>
                  <a:pt x="21382" y="12717"/>
                  <a:pt x="21382" y="12708"/>
                  <a:pt x="21382" y="12700"/>
                </a:cubicBezTo>
              </a:path>
              <a:path w="4044" h="3796">
                <a:moveTo>
                  <a:pt x="21779" y="13146"/>
                </a:moveTo>
                <a:cubicBezTo>
                  <a:pt x="21751" y="13174"/>
                  <a:pt x="21742" y="13188"/>
                  <a:pt x="21754" y="13221"/>
                </a:cubicBezTo>
                <a:cubicBezTo>
                  <a:pt x="21852" y="13162"/>
                  <a:pt x="21901" y="13112"/>
                  <a:pt x="21754" y="13097"/>
                </a:cubicBezTo>
              </a:path>
              <a:path w="4044" h="3796">
                <a:moveTo>
                  <a:pt x="22051" y="12750"/>
                </a:moveTo>
                <a:cubicBezTo>
                  <a:pt x="22033" y="12828"/>
                  <a:pt x="22027" y="12892"/>
                  <a:pt x="22027" y="12973"/>
                </a:cubicBezTo>
                <a:cubicBezTo>
                  <a:pt x="22182" y="12989"/>
                  <a:pt x="22230" y="12983"/>
                  <a:pt x="22374" y="12923"/>
                </a:cubicBezTo>
              </a:path>
              <a:path w="4044" h="3796">
                <a:moveTo>
                  <a:pt x="22250" y="12601"/>
                </a:moveTo>
                <a:cubicBezTo>
                  <a:pt x="22231" y="12830"/>
                  <a:pt x="22260" y="13042"/>
                  <a:pt x="22299" y="13271"/>
                </a:cubicBezTo>
              </a:path>
              <a:path w="4044" h="3796">
                <a:moveTo>
                  <a:pt x="20265" y="13692"/>
                </a:moveTo>
                <a:cubicBezTo>
                  <a:pt x="20855" y="13590"/>
                  <a:pt x="21453" y="13549"/>
                  <a:pt x="22051" y="13519"/>
                </a:cubicBezTo>
                <a:cubicBezTo>
                  <a:pt x="22626" y="13490"/>
                  <a:pt x="23190" y="13498"/>
                  <a:pt x="23763" y="13519"/>
                </a:cubicBezTo>
              </a:path>
              <a:path w="4044" h="3796">
                <a:moveTo>
                  <a:pt x="23019" y="12626"/>
                </a:moveTo>
                <a:cubicBezTo>
                  <a:pt x="22879" y="12668"/>
                  <a:pt x="22665" y="12873"/>
                  <a:pt x="22696" y="13047"/>
                </a:cubicBezTo>
                <a:cubicBezTo>
                  <a:pt x="22729" y="13088"/>
                  <a:pt x="22763" y="13130"/>
                  <a:pt x="22796" y="13171"/>
                </a:cubicBezTo>
                <a:cubicBezTo>
                  <a:pt x="22979" y="13145"/>
                  <a:pt x="23403" y="13037"/>
                  <a:pt x="23093" y="12774"/>
                </a:cubicBezTo>
                <a:cubicBezTo>
                  <a:pt x="22944" y="12725"/>
                  <a:pt x="22895" y="12709"/>
                  <a:pt x="22796" y="12774"/>
                </a:cubicBezTo>
              </a:path>
              <a:path w="4044" h="3796">
                <a:moveTo>
                  <a:pt x="23192" y="13717"/>
                </a:moveTo>
                <a:cubicBezTo>
                  <a:pt x="23216" y="13559"/>
                  <a:pt x="22946" y="13686"/>
                  <a:pt x="22870" y="13742"/>
                </a:cubicBezTo>
                <a:cubicBezTo>
                  <a:pt x="22845" y="13775"/>
                  <a:pt x="22821" y="13808"/>
                  <a:pt x="22796" y="13841"/>
                </a:cubicBezTo>
                <a:cubicBezTo>
                  <a:pt x="23004" y="13914"/>
                  <a:pt x="23260" y="13919"/>
                  <a:pt x="23366" y="14064"/>
                </a:cubicBezTo>
                <a:cubicBezTo>
                  <a:pt x="23277" y="14147"/>
                  <a:pt x="23039" y="14328"/>
                  <a:pt x="23068" y="14064"/>
                </a:cubicBezTo>
                <a:cubicBezTo>
                  <a:pt x="23084" y="13917"/>
                  <a:pt x="23139" y="13810"/>
                  <a:pt x="23217" y="13692"/>
                </a:cubicBezTo>
              </a:path>
              <a:path w="4044" h="3796">
                <a:moveTo>
                  <a:pt x="21382" y="11435"/>
                </a:moveTo>
                <a:cubicBezTo>
                  <a:pt x="21263" y="11458"/>
                  <a:pt x="21085" y="11939"/>
                  <a:pt x="21010" y="12080"/>
                </a:cubicBezTo>
                <a:cubicBezTo>
                  <a:pt x="20930" y="12231"/>
                  <a:pt x="20845" y="12379"/>
                  <a:pt x="20762" y="12526"/>
                </a:cubicBezTo>
              </a:path>
              <a:path w="4044" h="3796">
                <a:moveTo>
                  <a:pt x="21158" y="10988"/>
                </a:moveTo>
                <a:cubicBezTo>
                  <a:pt x="21158" y="10980"/>
                  <a:pt x="21158" y="10972"/>
                  <a:pt x="21158" y="10964"/>
                </a:cubicBezTo>
                <a:cubicBezTo>
                  <a:pt x="21218" y="11101"/>
                  <a:pt x="21203" y="11302"/>
                  <a:pt x="21208" y="11460"/>
                </a:cubicBezTo>
                <a:cubicBezTo>
                  <a:pt x="21208" y="11485"/>
                  <a:pt x="21208" y="11493"/>
                  <a:pt x="21208" y="11509"/>
                </a:cubicBezTo>
              </a:path>
              <a:path w="4044" h="3796">
                <a:moveTo>
                  <a:pt x="21903" y="11435"/>
                </a:moveTo>
                <a:cubicBezTo>
                  <a:pt x="21903" y="11403"/>
                  <a:pt x="21903" y="11795"/>
                  <a:pt x="21903" y="11857"/>
                </a:cubicBezTo>
                <a:cubicBezTo>
                  <a:pt x="21903" y="11882"/>
                  <a:pt x="21903" y="11906"/>
                  <a:pt x="21903" y="11931"/>
                </a:cubicBezTo>
              </a:path>
              <a:path w="4044" h="3796">
                <a:moveTo>
                  <a:pt x="22473" y="13866"/>
                </a:moveTo>
                <a:cubicBezTo>
                  <a:pt x="22456" y="13780"/>
                  <a:pt x="22390" y="13729"/>
                  <a:pt x="22299" y="13717"/>
                </a:cubicBezTo>
                <a:cubicBezTo>
                  <a:pt x="22117" y="13692"/>
                  <a:pt x="21966" y="13816"/>
                  <a:pt x="22027" y="14015"/>
                </a:cubicBezTo>
                <a:cubicBezTo>
                  <a:pt x="22052" y="14048"/>
                  <a:pt x="22076" y="14081"/>
                  <a:pt x="22101" y="14114"/>
                </a:cubicBezTo>
                <a:cubicBezTo>
                  <a:pt x="22335" y="14079"/>
                  <a:pt x="22386" y="14016"/>
                  <a:pt x="22473" y="13791"/>
                </a:cubicBezTo>
                <a:cubicBezTo>
                  <a:pt x="22485" y="13981"/>
                  <a:pt x="22488" y="14148"/>
                  <a:pt x="22473" y="14337"/>
                </a:cubicBezTo>
                <a:cubicBezTo>
                  <a:pt x="22473" y="14362"/>
                  <a:pt x="22473" y="14387"/>
                  <a:pt x="22473" y="14412"/>
                </a:cubicBezTo>
              </a:path>
              <a:path w="4044" h="3796">
                <a:moveTo>
                  <a:pt x="21803" y="14362"/>
                </a:moveTo>
                <a:cubicBezTo>
                  <a:pt x="21843" y="14416"/>
                  <a:pt x="21812" y="14349"/>
                  <a:pt x="21754" y="14511"/>
                </a:cubicBezTo>
                <a:cubicBezTo>
                  <a:pt x="21965" y="14462"/>
                  <a:pt x="21804" y="14361"/>
                  <a:pt x="21803" y="14362"/>
                </a:cubicBezTo>
                <a:cubicBezTo>
                  <a:pt x="21795" y="14387"/>
                  <a:pt x="21787" y="14411"/>
                  <a:pt x="21779" y="14436"/>
                </a:cubicBezTo>
              </a:path>
              <a:path w="4044" h="3796">
                <a:moveTo>
                  <a:pt x="20786" y="11435"/>
                </a:moveTo>
                <a:cubicBezTo>
                  <a:pt x="20721" y="11467"/>
                  <a:pt x="20475" y="11993"/>
                  <a:pt x="20389" y="12105"/>
                </a:cubicBezTo>
                <a:cubicBezTo>
                  <a:pt x="20252" y="12242"/>
                  <a:pt x="20223" y="12256"/>
                  <a:pt x="20166" y="12353"/>
                </a:cubicBezTo>
              </a:path>
              <a:path w="4044" h="3796">
                <a:moveTo>
                  <a:pt x="20414" y="10740"/>
                </a:moveTo>
                <a:cubicBezTo>
                  <a:pt x="20227" y="10721"/>
                  <a:pt x="20135" y="10992"/>
                  <a:pt x="20117" y="11162"/>
                </a:cubicBezTo>
                <a:cubicBezTo>
                  <a:pt x="20138" y="11339"/>
                  <a:pt x="20126" y="11397"/>
                  <a:pt x="20265" y="11410"/>
                </a:cubicBezTo>
                <a:cubicBezTo>
                  <a:pt x="20383" y="11272"/>
                  <a:pt x="20572" y="11040"/>
                  <a:pt x="20340" y="10889"/>
                </a:cubicBezTo>
                <a:cubicBezTo>
                  <a:pt x="20323" y="10889"/>
                  <a:pt x="20307" y="10889"/>
                  <a:pt x="20290" y="10889"/>
                </a:cubicBezTo>
              </a:path>
              <a:path w="4044" h="3796">
                <a:moveTo>
                  <a:pt x="20836" y="10864"/>
                </a:moveTo>
                <a:cubicBezTo>
                  <a:pt x="20836" y="11032"/>
                  <a:pt x="20851" y="11194"/>
                  <a:pt x="20861" y="11361"/>
                </a:cubicBezTo>
              </a:path>
              <a:path w="4044" h="3796">
                <a:moveTo>
                  <a:pt x="21183" y="13891"/>
                </a:moveTo>
                <a:cubicBezTo>
                  <a:pt x="21312" y="13789"/>
                  <a:pt x="21338" y="13742"/>
                  <a:pt x="21481" y="13742"/>
                </a:cubicBezTo>
                <a:cubicBezTo>
                  <a:pt x="21494" y="13933"/>
                  <a:pt x="21443" y="13997"/>
                  <a:pt x="21282" y="14114"/>
                </a:cubicBezTo>
                <a:cubicBezTo>
                  <a:pt x="21332" y="14003"/>
                  <a:pt x="21574" y="13891"/>
                  <a:pt x="21580" y="14139"/>
                </a:cubicBezTo>
                <a:cubicBezTo>
                  <a:pt x="21585" y="14365"/>
                  <a:pt x="21314" y="14414"/>
                  <a:pt x="21158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35880" y="1973160"/>
            <a:ext cx="223920" cy="339840"/>
          </a:xfrm>
          <a:custGeom>
            <a:avLst/>
            <a:gdLst/>
            <a:ahLst/>
            <a:rect l="l" t="t" r="r" b="b"/>
            <a:pathLst>
              <a:path w="621" h="943">
                <a:moveTo>
                  <a:pt x="21208" y="5631"/>
                </a:moveTo>
                <a:cubicBezTo>
                  <a:pt x="21184" y="5726"/>
                  <a:pt x="21348" y="5534"/>
                  <a:pt x="21431" y="5482"/>
                </a:cubicBezTo>
                <a:cubicBezTo>
                  <a:pt x="21648" y="5776"/>
                  <a:pt x="21517" y="6027"/>
                  <a:pt x="21233" y="6251"/>
                </a:cubicBezTo>
                <a:cubicBezTo>
                  <a:pt x="21077" y="6329"/>
                  <a:pt x="21056" y="6377"/>
                  <a:pt x="20960" y="6325"/>
                </a:cubicBezTo>
                <a:cubicBezTo>
                  <a:pt x="20960" y="6089"/>
                  <a:pt x="21083" y="5993"/>
                  <a:pt x="21307" y="6176"/>
                </a:cubicBezTo>
                <a:cubicBezTo>
                  <a:pt x="21401" y="6293"/>
                  <a:pt x="21431" y="6327"/>
                  <a:pt x="21456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0800" y="226836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21779" y="6300"/>
                </a:moveTo>
                <a:cubicBezTo>
                  <a:pt x="21779" y="6308"/>
                  <a:pt x="21779" y="6317"/>
                  <a:pt x="21779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83360" y="1928880"/>
            <a:ext cx="160560" cy="14292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22622" y="5358"/>
                </a:moveTo>
                <a:cubicBezTo>
                  <a:pt x="22542" y="5374"/>
                  <a:pt x="22365" y="5350"/>
                  <a:pt x="22299" y="5383"/>
                </a:cubicBezTo>
                <a:cubicBezTo>
                  <a:pt x="22187" y="5438"/>
                  <a:pt x="22185" y="5650"/>
                  <a:pt x="22175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91640" y="2054160"/>
            <a:ext cx="17928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22275" y="5779"/>
                </a:moveTo>
                <a:cubicBezTo>
                  <a:pt x="22461" y="5698"/>
                  <a:pt x="22581" y="5646"/>
                  <a:pt x="22671" y="5879"/>
                </a:cubicBezTo>
                <a:cubicBezTo>
                  <a:pt x="22771" y="6137"/>
                  <a:pt x="22551" y="6278"/>
                  <a:pt x="22324" y="6226"/>
                </a:cubicBezTo>
                <a:cubicBezTo>
                  <a:pt x="22248" y="6187"/>
                  <a:pt x="22233" y="6188"/>
                  <a:pt x="22200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96200" y="2017800"/>
            <a:ext cx="187560" cy="223920"/>
          </a:xfrm>
          <a:custGeom>
            <a:avLst/>
            <a:gdLst/>
            <a:ahLst/>
            <a:rect l="l" t="t" r="r" b="b"/>
            <a:pathLst>
              <a:path w="521" h="621">
                <a:moveTo>
                  <a:pt x="23217" y="5631"/>
                </a:moveTo>
                <a:cubicBezTo>
                  <a:pt x="23051" y="5646"/>
                  <a:pt x="23012" y="5867"/>
                  <a:pt x="23068" y="6052"/>
                </a:cubicBezTo>
                <a:cubicBezTo>
                  <a:pt x="23093" y="6093"/>
                  <a:pt x="23118" y="6135"/>
                  <a:pt x="23143" y="6176"/>
                </a:cubicBezTo>
                <a:cubicBezTo>
                  <a:pt x="23371" y="6186"/>
                  <a:pt x="23658" y="6084"/>
                  <a:pt x="23540" y="5755"/>
                </a:cubicBezTo>
                <a:cubicBezTo>
                  <a:pt x="23468" y="5556"/>
                  <a:pt x="23296" y="5617"/>
                  <a:pt x="23143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10760" y="2009880"/>
            <a:ext cx="196560" cy="23184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23862" y="5581"/>
                </a:moveTo>
                <a:cubicBezTo>
                  <a:pt x="23700" y="5743"/>
                  <a:pt x="23665" y="5901"/>
                  <a:pt x="23639" y="6127"/>
                </a:cubicBezTo>
                <a:cubicBezTo>
                  <a:pt x="23882" y="6272"/>
                  <a:pt x="24085" y="6277"/>
                  <a:pt x="24185" y="5953"/>
                </a:cubicBezTo>
                <a:cubicBezTo>
                  <a:pt x="24234" y="5793"/>
                  <a:pt x="24114" y="5749"/>
                  <a:pt x="24011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26200" y="2438280"/>
            <a:ext cx="204840" cy="17640"/>
          </a:xfrm>
          <a:custGeom>
            <a:avLst/>
            <a:gdLst/>
            <a:ahLst/>
            <a:rect l="l" t="t" r="r" b="b"/>
            <a:pathLst>
              <a:path w="572" h="50">
                <a:moveTo>
                  <a:pt x="19794" y="6796"/>
                </a:moveTo>
                <a:cubicBezTo>
                  <a:pt x="19986" y="6813"/>
                  <a:pt x="20175" y="6806"/>
                  <a:pt x="20365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1160" y="2394000"/>
            <a:ext cx="19080" cy="249120"/>
          </a:xfrm>
          <a:custGeom>
            <a:avLst/>
            <a:gdLst/>
            <a:ahLst/>
            <a:rect l="l" t="t" r="r" b="b"/>
            <a:pathLst>
              <a:path w="51" h="695">
                <a:moveTo>
                  <a:pt x="21282" y="6648"/>
                </a:moveTo>
                <a:cubicBezTo>
                  <a:pt x="21339" y="6874"/>
                  <a:pt x="21326" y="7064"/>
                  <a:pt x="21307" y="7293"/>
                </a:cubicBezTo>
                <a:cubicBezTo>
                  <a:pt x="21307" y="7309"/>
                  <a:pt x="21307" y="7326"/>
                  <a:pt x="21307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2571840"/>
            <a:ext cx="144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21803" y="7144"/>
                </a:moveTo>
                <a:cubicBezTo>
                  <a:pt x="21803" y="7194"/>
                  <a:pt x="21803" y="7243"/>
                  <a:pt x="21803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10360" y="2394000"/>
            <a:ext cx="17784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22324" y="6722"/>
                </a:moveTo>
                <a:cubicBezTo>
                  <a:pt x="22417" y="6664"/>
                  <a:pt x="22639" y="6575"/>
                  <a:pt x="22696" y="6747"/>
                </a:cubicBezTo>
                <a:cubicBezTo>
                  <a:pt x="22740" y="6881"/>
                  <a:pt x="22545" y="6898"/>
                  <a:pt x="22473" y="6921"/>
                </a:cubicBezTo>
                <a:cubicBezTo>
                  <a:pt x="22647" y="6900"/>
                  <a:pt x="22637" y="6892"/>
                  <a:pt x="22746" y="7020"/>
                </a:cubicBezTo>
                <a:cubicBezTo>
                  <a:pt x="22622" y="7213"/>
                  <a:pt x="22484" y="7175"/>
                  <a:pt x="22250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59840" y="2367000"/>
            <a:ext cx="142920" cy="258840"/>
          </a:xfrm>
          <a:custGeom>
            <a:avLst/>
            <a:gdLst/>
            <a:ahLst/>
            <a:rect l="l" t="t" r="r" b="b"/>
            <a:pathLst>
              <a:path w="398" h="721">
                <a:moveTo>
                  <a:pt x="23316" y="6672"/>
                </a:moveTo>
                <a:cubicBezTo>
                  <a:pt x="23197" y="6577"/>
                  <a:pt x="23069" y="6517"/>
                  <a:pt x="22969" y="6697"/>
                </a:cubicBezTo>
                <a:cubicBezTo>
                  <a:pt x="22945" y="6816"/>
                  <a:pt x="22934" y="6853"/>
                  <a:pt x="22994" y="6921"/>
                </a:cubicBezTo>
                <a:cubicBezTo>
                  <a:pt x="23171" y="6890"/>
                  <a:pt x="23252" y="6849"/>
                  <a:pt x="23316" y="6672"/>
                </a:cubicBezTo>
                <a:cubicBezTo>
                  <a:pt x="23332" y="6863"/>
                  <a:pt x="23341" y="7049"/>
                  <a:pt x="23341" y="7243"/>
                </a:cubicBezTo>
                <a:cubicBezTo>
                  <a:pt x="23341" y="7260"/>
                  <a:pt x="23341" y="7276"/>
                  <a:pt x="2334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91680" y="2367000"/>
            <a:ext cx="188640" cy="2221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23912" y="6573"/>
                </a:moveTo>
                <a:cubicBezTo>
                  <a:pt x="23812" y="6593"/>
                  <a:pt x="23668" y="6655"/>
                  <a:pt x="23589" y="6722"/>
                </a:cubicBezTo>
                <a:cubicBezTo>
                  <a:pt x="23562" y="6745"/>
                  <a:pt x="23589" y="6872"/>
                  <a:pt x="23589" y="6921"/>
                </a:cubicBezTo>
                <a:cubicBezTo>
                  <a:pt x="23745" y="6884"/>
                  <a:pt x="23961" y="6794"/>
                  <a:pt x="24085" y="6945"/>
                </a:cubicBezTo>
                <a:cubicBezTo>
                  <a:pt x="24288" y="7191"/>
                  <a:pt x="23750" y="7171"/>
                  <a:pt x="23688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19960" y="2687760"/>
            <a:ext cx="1268280" cy="142920"/>
          </a:xfrm>
          <a:custGeom>
            <a:avLst/>
            <a:gdLst/>
            <a:ahLst/>
            <a:rect l="l" t="t" r="r" b="b"/>
            <a:pathLst>
              <a:path w="3523" h="398">
                <a:moveTo>
                  <a:pt x="20613" y="7466"/>
                </a:moveTo>
                <a:cubicBezTo>
                  <a:pt x="21075" y="7466"/>
                  <a:pt x="21517" y="7517"/>
                  <a:pt x="21977" y="7565"/>
                </a:cubicBezTo>
                <a:cubicBezTo>
                  <a:pt x="22701" y="7641"/>
                  <a:pt x="23418" y="7741"/>
                  <a:pt x="24135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74000" y="1847880"/>
            <a:ext cx="142920" cy="366840"/>
          </a:xfrm>
          <a:custGeom>
            <a:avLst/>
            <a:gdLst/>
            <a:ahLst/>
            <a:rect l="l" t="t" r="r" b="b"/>
            <a:pathLst>
              <a:path w="397" h="1018">
                <a:moveTo>
                  <a:pt x="22151" y="5135"/>
                </a:moveTo>
                <a:cubicBezTo>
                  <a:pt x="22265" y="5446"/>
                  <a:pt x="22402" y="5745"/>
                  <a:pt x="22523" y="6052"/>
                </a:cubicBezTo>
                <a:cubicBezTo>
                  <a:pt x="22531" y="6085"/>
                  <a:pt x="22539" y="6119"/>
                  <a:pt x="22547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72280" y="1704960"/>
            <a:ext cx="81000" cy="9036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22423" y="4738"/>
                </a:moveTo>
                <a:cubicBezTo>
                  <a:pt x="22444" y="4846"/>
                  <a:pt x="22399" y="4991"/>
                  <a:pt x="22547" y="4986"/>
                </a:cubicBezTo>
                <a:cubicBezTo>
                  <a:pt x="22580" y="4978"/>
                  <a:pt x="22614" y="4969"/>
                  <a:pt x="22647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26280" y="1670040"/>
            <a:ext cx="54000" cy="169920"/>
          </a:xfrm>
          <a:custGeom>
            <a:avLst/>
            <a:gdLst/>
            <a:ahLst/>
            <a:rect l="l" t="t" r="r" b="b"/>
            <a:pathLst>
              <a:path w="150" h="473">
                <a:moveTo>
                  <a:pt x="22721" y="4638"/>
                </a:moveTo>
                <a:cubicBezTo>
                  <a:pt x="22659" y="4794"/>
                  <a:pt x="22616" y="4948"/>
                  <a:pt x="22572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05840" y="1857240"/>
            <a:ext cx="36360" cy="206640"/>
          </a:xfrm>
          <a:custGeom>
            <a:avLst/>
            <a:gdLst/>
            <a:ahLst/>
            <a:rect l="l" t="t" r="r" b="b"/>
            <a:pathLst>
              <a:path w="100" h="572">
                <a:moveTo>
                  <a:pt x="22895" y="5159"/>
                </a:moveTo>
                <a:cubicBezTo>
                  <a:pt x="22846" y="5352"/>
                  <a:pt x="22823" y="5535"/>
                  <a:pt x="22796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05840" y="1938240"/>
            <a:ext cx="171360" cy="285840"/>
          </a:xfrm>
          <a:custGeom>
            <a:avLst/>
            <a:gdLst/>
            <a:ahLst/>
            <a:rect l="l" t="t" r="r" b="b"/>
            <a:pathLst>
              <a:path w="472" h="794">
                <a:moveTo>
                  <a:pt x="22796" y="5383"/>
                </a:moveTo>
                <a:cubicBezTo>
                  <a:pt x="22948" y="5611"/>
                  <a:pt x="23136" y="5821"/>
                  <a:pt x="23242" y="6077"/>
                </a:cubicBezTo>
                <a:cubicBezTo>
                  <a:pt x="23250" y="6110"/>
                  <a:pt x="23259" y="6143"/>
                  <a:pt x="23267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04120" y="1741320"/>
            <a:ext cx="98640" cy="268560"/>
          </a:xfrm>
          <a:custGeom>
            <a:avLst/>
            <a:gdLst/>
            <a:ahLst/>
            <a:rect l="l" t="t" r="r" b="b"/>
            <a:pathLst>
              <a:path w="274" h="745">
                <a:moveTo>
                  <a:pt x="23316" y="4862"/>
                </a:moveTo>
                <a:cubicBezTo>
                  <a:pt x="23127" y="4818"/>
                  <a:pt x="23103" y="4851"/>
                  <a:pt x="23068" y="5035"/>
                </a:cubicBezTo>
                <a:cubicBezTo>
                  <a:pt x="23237" y="5073"/>
                  <a:pt x="23292" y="4837"/>
                  <a:pt x="23341" y="5110"/>
                </a:cubicBezTo>
                <a:cubicBezTo>
                  <a:pt x="23372" y="5281"/>
                  <a:pt x="23318" y="5425"/>
                  <a:pt x="23267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28040" y="1893960"/>
            <a:ext cx="936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23713" y="5259"/>
                </a:moveTo>
                <a:cubicBezTo>
                  <a:pt x="23713" y="5416"/>
                  <a:pt x="23712" y="5475"/>
                  <a:pt x="23688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18680" y="2911320"/>
            <a:ext cx="169560" cy="214560"/>
          </a:xfrm>
          <a:custGeom>
            <a:avLst/>
            <a:gdLst/>
            <a:ahLst/>
            <a:rect l="l" t="t" r="r" b="b"/>
            <a:pathLst>
              <a:path w="472" h="597">
                <a:moveTo>
                  <a:pt x="23887" y="8086"/>
                </a:moveTo>
                <a:cubicBezTo>
                  <a:pt x="23723" y="8110"/>
                  <a:pt x="23712" y="8091"/>
                  <a:pt x="23664" y="8285"/>
                </a:cubicBezTo>
                <a:cubicBezTo>
                  <a:pt x="23664" y="8301"/>
                  <a:pt x="23664" y="8318"/>
                  <a:pt x="23664" y="8334"/>
                </a:cubicBezTo>
                <a:cubicBezTo>
                  <a:pt x="23773" y="8317"/>
                  <a:pt x="24105" y="8173"/>
                  <a:pt x="24135" y="8384"/>
                </a:cubicBezTo>
                <a:cubicBezTo>
                  <a:pt x="24168" y="8618"/>
                  <a:pt x="23871" y="8640"/>
                  <a:pt x="23738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86840" y="291132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23242" y="8086"/>
                </a:moveTo>
                <a:cubicBezTo>
                  <a:pt x="23031" y="8284"/>
                  <a:pt x="22996" y="8438"/>
                  <a:pt x="23093" y="8706"/>
                </a:cubicBezTo>
                <a:cubicBezTo>
                  <a:pt x="23446" y="8603"/>
                  <a:pt x="23616" y="8516"/>
                  <a:pt x="23341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26280" y="2894040"/>
            <a:ext cx="27000" cy="214200"/>
          </a:xfrm>
          <a:custGeom>
            <a:avLst/>
            <a:gdLst/>
            <a:ahLst/>
            <a:rect l="l" t="t" r="r" b="b"/>
            <a:pathLst>
              <a:path w="76" h="596">
                <a:moveTo>
                  <a:pt x="22647" y="8037"/>
                </a:moveTo>
                <a:cubicBezTo>
                  <a:pt x="22647" y="8216"/>
                  <a:pt x="22631" y="8407"/>
                  <a:pt x="22597" y="8582"/>
                </a:cubicBezTo>
                <a:cubicBezTo>
                  <a:pt x="22589" y="8599"/>
                  <a:pt x="22580" y="8615"/>
                  <a:pt x="22572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6240" y="2813040"/>
            <a:ext cx="17640" cy="303120"/>
          </a:xfrm>
          <a:custGeom>
            <a:avLst/>
            <a:gdLst/>
            <a:ahLst/>
            <a:rect l="l" t="t" r="r" b="b"/>
            <a:pathLst>
              <a:path w="51" h="845">
                <a:moveTo>
                  <a:pt x="21183" y="7813"/>
                </a:moveTo>
                <a:cubicBezTo>
                  <a:pt x="21211" y="8009"/>
                  <a:pt x="21230" y="8223"/>
                  <a:pt x="21233" y="8434"/>
                </a:cubicBezTo>
                <a:cubicBezTo>
                  <a:pt x="21233" y="8566"/>
                  <a:pt x="21233" y="8583"/>
                  <a:pt x="21233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75720" y="3036960"/>
            <a:ext cx="46080" cy="52200"/>
          </a:xfrm>
          <a:custGeom>
            <a:avLst/>
            <a:gdLst/>
            <a:ahLst/>
            <a:rect l="l" t="t" r="r" b="b"/>
            <a:pathLst>
              <a:path w="125" h="149">
                <a:moveTo>
                  <a:pt x="21878" y="8508"/>
                </a:moveTo>
                <a:cubicBezTo>
                  <a:pt x="21900" y="8573"/>
                  <a:pt x="21899" y="8597"/>
                  <a:pt x="21952" y="8582"/>
                </a:cubicBezTo>
                <a:cubicBezTo>
                  <a:pt x="21991" y="8486"/>
                  <a:pt x="22012" y="8481"/>
                  <a:pt x="21952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urately add and subtract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amuel adds the following three numbers:  5.41,  12,  9.2  and arrives at an answer of 14.7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rt A: Is this answer correct? 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rt B: Use what you know about decimal addition to explain how you came to your conclusion?  Use words and/or numbers in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PW pg. 39 od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PW pg. 17 od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1-30T18:48:56Z</dcterms:modified>
  <cp:revision>26</cp:revision>
  <dc:subject/>
  <dc:title>Unit 1 – Variables and Equations </dc:title>
</cp:coreProperties>
</file>